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WHOOSH.WAV" ContentType="audio/x-wav"/>
  <Override PartName="/ppt/media/image11.wmf" ContentType="image/x-wmf"/>
  <Override PartName="/ppt/media/image3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3.wmf" ContentType="image/x-wmf"/>
  <Override PartName="/ppt/media/image1.png" ContentType="image/png"/>
  <Override PartName="/ppt/media/image10.png" ContentType="image/png"/>
  <Override PartName="/ppt/media/image6.png" ContentType="image/png"/>
  <Override PartName="/ppt/media/LASER.WAV" ContentType="audio/x-wav"/>
  <Override PartName="/ppt/media/image2.png" ContentType="image/png"/>
  <Override PartName="/ppt/media/image12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6858000" cy="9144000"/>
  <p:notesSz cx="6624638" cy="9734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9C527-FC6B-4B8B-AD9B-1FF1726480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9960" y="609480"/>
            <a:ext cx="577224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a20b6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9960" y="1828800"/>
            <a:ext cx="5943600" cy="30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9960" y="5119200"/>
            <a:ext cx="5943600" cy="30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393CC-A06B-47E2-951A-8EED8E2CC2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9960" y="609480"/>
            <a:ext cx="577224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a20b6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9960" y="1828800"/>
            <a:ext cx="2900160" cy="30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45560" y="1828800"/>
            <a:ext cx="2900160" cy="30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99960" y="5119200"/>
            <a:ext cx="2900160" cy="30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45560" y="5119200"/>
            <a:ext cx="2900160" cy="30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FCBD7-7A9F-4C59-99FD-065F848E02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9960" y="609480"/>
            <a:ext cx="577224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a20b6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99960" y="1828800"/>
            <a:ext cx="1913760" cy="30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409840" y="1828800"/>
            <a:ext cx="1913760" cy="30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419720" y="1828800"/>
            <a:ext cx="1913760" cy="30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99960" y="5119200"/>
            <a:ext cx="1913760" cy="30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409840" y="5119200"/>
            <a:ext cx="1913760" cy="30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419720" y="5119200"/>
            <a:ext cx="1913760" cy="30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5D8DA-BCD1-40A6-B608-0EEA9E0525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9960" y="609480"/>
            <a:ext cx="577224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a20b6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99960" y="1828800"/>
            <a:ext cx="594360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730DA-9965-4951-9319-EA9787DBDA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9960" y="609480"/>
            <a:ext cx="577224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a20b6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9960" y="1828800"/>
            <a:ext cx="5943600" cy="62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6229B-A011-4481-BD45-7702AC42A8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9960" y="609480"/>
            <a:ext cx="577224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a20b6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9960" y="1828800"/>
            <a:ext cx="2900160" cy="62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445560" y="1828800"/>
            <a:ext cx="2900160" cy="62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9F68B-DAFB-4D42-B9E0-7BAE65B5DD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9960" y="609480"/>
            <a:ext cx="577224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a20b6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BA3B5-A67A-4066-8452-8BF9BB5BAD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9960" y="609480"/>
            <a:ext cx="57722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6BA70-761A-46F2-A42E-0AF00BA054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9960" y="609480"/>
            <a:ext cx="577224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a20b6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9960" y="1828800"/>
            <a:ext cx="2900160" cy="30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445560" y="1828800"/>
            <a:ext cx="2900160" cy="62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9960" y="5119200"/>
            <a:ext cx="2900160" cy="30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5128E-4CCE-4A7B-AEF3-CD3C4CF4CC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9960" y="609480"/>
            <a:ext cx="577224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a20b6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9960" y="1828800"/>
            <a:ext cx="2900160" cy="62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45560" y="1828800"/>
            <a:ext cx="2900160" cy="30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45560" y="5119200"/>
            <a:ext cx="2900160" cy="30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69D76-3784-4FCD-8AD5-D7EC796CE5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9960" y="609480"/>
            <a:ext cx="577224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a20b6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9960" y="1828800"/>
            <a:ext cx="2900160" cy="30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45560" y="1828800"/>
            <a:ext cx="2900160" cy="30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99960" y="5119200"/>
            <a:ext cx="5943600" cy="30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C62EA-7AD0-4D17-8721-AE1577C777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33280" y="414360"/>
            <a:ext cx="6391440" cy="852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9960" y="609480"/>
            <a:ext cx="577224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a20b6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20b6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9960" y="1828800"/>
            <a:ext cx="5943600" cy="62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343240" y="8229240"/>
            <a:ext cx="2171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ko-KR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028840" y="82292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ko-KR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7750DF3-09FA-4537-BEC7-050CF3F549A0}" type="slidenum">
              <a:rPr b="0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9960" y="1523880"/>
            <a:ext cx="605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399960" y="8178840"/>
            <a:ext cx="2557800" cy="634680"/>
            <a:chOff x="399960" y="8178840"/>
            <a:chExt cx="2557800" cy="634680"/>
          </a:xfrm>
        </p:grpSpPr>
        <p:pic>
          <p:nvPicPr>
            <p:cNvPr id="7" name="" descr=""/>
            <p:cNvPicPr/>
            <p:nvPr/>
          </p:nvPicPr>
          <p:blipFill>
            <a:blip r:embed="rId2"/>
            <a:stretch/>
          </p:blipFill>
          <p:spPr>
            <a:xfrm>
              <a:off x="399960" y="8229600"/>
              <a:ext cx="102888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1230120" y="8178840"/>
              <a:ext cx="172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a20b6b"/>
                  </a:solidFill>
                  <a:latin typeface="Impact"/>
                  <a:ea typeface="돋움"/>
                </a:rPr>
                <a:t>Software 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a20b6b"/>
                  </a:solidFill>
                  <a:latin typeface="Impact"/>
                  <a:ea typeface="돋움"/>
                </a:rPr>
                <a:t>Laborat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440" y="205704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a20b6b"/>
                </a:solidFill>
                <a:latin typeface="Arial"/>
              </a:rPr>
              <a:t>Design Patterns and Framework in CBSE</a:t>
            </a:r>
            <a:endParaRPr b="1" lang="en-US" sz="3200" spc="-1" strike="noStrike">
              <a:solidFill>
                <a:srgbClr val="a20b6b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3040" y="4775040"/>
            <a:ext cx="5371920" cy="233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99. Mar. 15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ented b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k Wei J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04400" y="878040"/>
            <a:ext cx="425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CS750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돋움"/>
              </a:rPr>
              <a:t>소프트웨어 공학 특강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: CB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3276720"/>
            <a:ext cx="5829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Haettenschweiler"/>
              </a:rPr>
              <a:t>Architectural Style and Component Frame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" dur="1" fill="hold"/>
                                  <p:tgtEl>
                                    <p:spTgt spid="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9960" y="609480"/>
            <a:ext cx="577224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a20b6b"/>
                </a:solidFill>
                <a:latin typeface="Arial"/>
              </a:rPr>
              <a:t>General Properties of Patterns</a:t>
            </a:r>
            <a:endParaRPr b="1" lang="en-US" sz="2800" spc="-1" strike="noStrike">
              <a:solidFill>
                <a:srgbClr val="a20b6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9960" y="1828800"/>
            <a:ext cx="5943600" cy="62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lves a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just abstract principles or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en concep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theories or spe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olution is not obvio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describes a relationsh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describe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s a significant human compon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F65D6-B057-4EF4-A2AE-08C958CC7D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9960" y="609480"/>
            <a:ext cx="577224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a20b6b"/>
                </a:solidFill>
                <a:latin typeface="Arial"/>
              </a:rPr>
              <a:t>Structure of Pattern</a:t>
            </a:r>
            <a:endParaRPr b="1" lang="en-US" sz="2800" spc="-1" strike="noStrike">
              <a:solidFill>
                <a:srgbClr val="a20b6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9960" y="1828800"/>
            <a:ext cx="5943600" cy="62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by natural language in catalogue sty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f. pattern language is a structured collection and defines the rules to combine them into a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chitectural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f. pattern catalogue is a collection of related patterns(loosely or informally rela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titu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ter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pre-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and space trade-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 and implementation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s on flexibility, extensibility, por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18A09-B22A-4B3D-9979-69C40528FE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9960" y="609480"/>
            <a:ext cx="577224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a20b6b"/>
                </a:solidFill>
                <a:latin typeface="Arial"/>
              </a:rPr>
              <a:t>Kinds of Patterns</a:t>
            </a:r>
            <a:endParaRPr b="1" lang="en-US" sz="2800" spc="-1" strike="noStrike">
              <a:solidFill>
                <a:srgbClr val="a20b6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9960" y="1828800"/>
            <a:ext cx="5943600" cy="62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chitectural patt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es a fundamental structural organization or schema for softwar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 set of predefined sub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es subsystem’s 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 and guidelines for organization of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patt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e for refining the subsystems or components of softwar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i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-level pattern specific to a programming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i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ti-patt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1607C-9FB0-4253-BEEA-D84F67B394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9960" y="609480"/>
            <a:ext cx="577224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a20b6b"/>
                </a:solidFill>
                <a:latin typeface="Arial"/>
              </a:rPr>
              <a:t>Architectural Style Vs. Pattern</a:t>
            </a:r>
            <a:endParaRPr b="1" lang="en-US" sz="2800" spc="-1" strike="noStrike">
              <a:solidFill>
                <a:srgbClr val="a20b6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9960" y="1828800"/>
            <a:ext cx="5943600" cy="62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an architectural style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rchitectural patterns 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chitectural idioms ? Architectural styl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 research and deb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rchitectural style def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ocabulary of component and connector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t of constraints on how they can be comb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254FC-A4E9-4B80-817C-50CBF7CD3D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9960" y="609480"/>
            <a:ext cx="577224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a20b6b"/>
                </a:solidFill>
                <a:latin typeface="Arial"/>
              </a:rPr>
              <a:t>Architectural Style Example(1/3)</a:t>
            </a:r>
            <a:endParaRPr b="1" lang="en-US" sz="2800" spc="-1" strike="noStrike">
              <a:solidFill>
                <a:srgbClr val="a20b6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9960" y="18288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 Loop(Lazano, 9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3048120"/>
            <a:ext cx="6019560" cy="4606920"/>
            <a:chOff x="457200" y="3048120"/>
            <a:chExt cx="6019560" cy="4606920"/>
          </a:xfrm>
        </p:grpSpPr>
        <p:sp>
          <p:nvSpPr>
            <p:cNvPr id="115" name=""/>
            <p:cNvSpPr/>
            <p:nvPr/>
          </p:nvSpPr>
          <p:spPr>
            <a:xfrm>
              <a:off x="457200" y="4302000"/>
              <a:ext cx="6019560" cy="1905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7160" y="3048120"/>
              <a:ext cx="14364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trol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74600" y="4911840"/>
              <a:ext cx="13680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tuat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57680" y="4902120"/>
              <a:ext cx="11300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ns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55880" y="4378320"/>
              <a:ext cx="307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tive component of rob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93640" y="629748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964400" y="6283440"/>
              <a:ext cx="122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edb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16760" y="7035840"/>
              <a:ext cx="177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viro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61960" y="6816600"/>
              <a:ext cx="213372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00200" y="3311640"/>
              <a:ext cx="1143000" cy="1600200"/>
            </a:xfrm>
            <a:custGeom>
              <a:avLst/>
              <a:gdLst/>
              <a:ahLst/>
              <a:rect l="l" t="t" r="r" b="b"/>
              <a:pathLst>
                <a:path w="720" h="1056">
                  <a:moveTo>
                    <a:pt x="720" y="0"/>
                  </a:moveTo>
                  <a:lnTo>
                    <a:pt x="0" y="0"/>
                  </a:lnTo>
                  <a:lnTo>
                    <a:pt x="0" y="105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0760" y="3311640"/>
              <a:ext cx="914400" cy="1600200"/>
            </a:xfrm>
            <a:custGeom>
              <a:avLst/>
              <a:gdLst/>
              <a:ahLst/>
              <a:rect l="l" t="t" r="r" b="b"/>
              <a:pathLst>
                <a:path w="576" h="1008">
                  <a:moveTo>
                    <a:pt x="0" y="0"/>
                  </a:moveTo>
                  <a:lnTo>
                    <a:pt x="576" y="0"/>
                  </a:lnTo>
                  <a:lnTo>
                    <a:pt x="576" y="100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12800" y="5369040"/>
              <a:ext cx="901800" cy="1600200"/>
            </a:xfrm>
            <a:custGeom>
              <a:avLst/>
              <a:gdLst/>
              <a:ahLst/>
              <a:rect l="l" t="t" r="r" b="b"/>
              <a:pathLst>
                <a:path w="568" h="1008">
                  <a:moveTo>
                    <a:pt x="40" y="0"/>
                  </a:moveTo>
                  <a:cubicBezTo>
                    <a:pt x="20" y="228"/>
                    <a:pt x="0" y="456"/>
                    <a:pt x="88" y="624"/>
                  </a:cubicBezTo>
                  <a:cubicBezTo>
                    <a:pt x="176" y="792"/>
                    <a:pt x="372" y="900"/>
                    <a:pt x="568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67080" y="5369040"/>
              <a:ext cx="977760" cy="1600200"/>
            </a:xfrm>
            <a:custGeom>
              <a:avLst/>
              <a:gdLst/>
              <a:ahLst/>
              <a:rect l="l" t="t" r="r" b="b"/>
              <a:pathLst>
                <a:path w="616" h="1008">
                  <a:moveTo>
                    <a:pt x="528" y="0"/>
                  </a:moveTo>
                  <a:cubicBezTo>
                    <a:pt x="572" y="132"/>
                    <a:pt x="616" y="264"/>
                    <a:pt x="528" y="432"/>
                  </a:cubicBezTo>
                  <a:cubicBezTo>
                    <a:pt x="440" y="600"/>
                    <a:pt x="220" y="804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E6D30-E30E-4D0F-91F2-30C9B203BB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9960" y="609480"/>
            <a:ext cx="577224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a20b6b"/>
                </a:solidFill>
                <a:latin typeface="Arial"/>
              </a:rPr>
              <a:t>Architectural Style Example(2/3)</a:t>
            </a:r>
            <a:endParaRPr b="1" lang="en-US" sz="2800" spc="-1" strike="noStrike">
              <a:solidFill>
                <a:srgbClr val="a20b6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9960" y="18284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yered Organization(Elfe, 87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828800" y="2590920"/>
            <a:ext cx="3047760" cy="5486040"/>
            <a:chOff x="1828800" y="2590920"/>
            <a:chExt cx="3047760" cy="5486040"/>
          </a:xfrm>
        </p:grpSpPr>
        <p:sp>
          <p:nvSpPr>
            <p:cNvPr id="131" name=""/>
            <p:cNvSpPr/>
            <p:nvPr/>
          </p:nvSpPr>
          <p:spPr>
            <a:xfrm>
              <a:off x="2113560" y="2590920"/>
              <a:ext cx="2527920" cy="411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36640" y="2590920"/>
              <a:ext cx="136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upervis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13560" y="3207960"/>
              <a:ext cx="2527920" cy="411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49440" y="3207960"/>
              <a:ext cx="19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lobal plan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17720" y="3825360"/>
              <a:ext cx="103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13560" y="3825360"/>
              <a:ext cx="2527920" cy="411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13560" y="4442400"/>
              <a:ext cx="2527920" cy="411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35200" y="4442400"/>
              <a:ext cx="137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avig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13560" y="5059800"/>
              <a:ext cx="2527920" cy="411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11400" y="5059800"/>
              <a:ext cx="253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al-World model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0320" y="5662800"/>
              <a:ext cx="218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nsor integ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13560" y="5676840"/>
              <a:ext cx="2527920" cy="411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13560" y="6294240"/>
              <a:ext cx="2527920" cy="411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84120" y="6294240"/>
              <a:ext cx="250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nsor interpre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13560" y="6911280"/>
              <a:ext cx="2527920" cy="411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48440" y="6911280"/>
              <a:ext cx="169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obot contr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58520" y="7582680"/>
              <a:ext cx="162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10920" y="7528680"/>
              <a:ext cx="1784160" cy="548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90360" y="2796480"/>
              <a:ext cx="222840" cy="61704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144" y="0"/>
                  </a:moveTo>
                  <a:cubicBezTo>
                    <a:pt x="72" y="60"/>
                    <a:pt x="0" y="120"/>
                    <a:pt x="0" y="192"/>
                  </a:cubicBezTo>
                  <a:cubicBezTo>
                    <a:pt x="0" y="264"/>
                    <a:pt x="72" y="348"/>
                    <a:pt x="144" y="4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41480" y="2796480"/>
              <a:ext cx="222840" cy="61704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0" y="432"/>
                  </a:moveTo>
                  <a:cubicBezTo>
                    <a:pt x="72" y="348"/>
                    <a:pt x="144" y="264"/>
                    <a:pt x="144" y="192"/>
                  </a:cubicBezTo>
                  <a:cubicBezTo>
                    <a:pt x="144" y="120"/>
                    <a:pt x="72" y="6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90360" y="3413880"/>
              <a:ext cx="222840" cy="61704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144" y="0"/>
                  </a:moveTo>
                  <a:cubicBezTo>
                    <a:pt x="72" y="60"/>
                    <a:pt x="0" y="120"/>
                    <a:pt x="0" y="192"/>
                  </a:cubicBezTo>
                  <a:cubicBezTo>
                    <a:pt x="0" y="264"/>
                    <a:pt x="72" y="348"/>
                    <a:pt x="144" y="4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41480" y="3413880"/>
              <a:ext cx="222840" cy="61704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0" y="432"/>
                  </a:moveTo>
                  <a:cubicBezTo>
                    <a:pt x="72" y="348"/>
                    <a:pt x="144" y="264"/>
                    <a:pt x="144" y="192"/>
                  </a:cubicBezTo>
                  <a:cubicBezTo>
                    <a:pt x="144" y="120"/>
                    <a:pt x="72" y="6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90360" y="4030920"/>
              <a:ext cx="222840" cy="61704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144" y="0"/>
                  </a:moveTo>
                  <a:cubicBezTo>
                    <a:pt x="72" y="60"/>
                    <a:pt x="0" y="120"/>
                    <a:pt x="0" y="192"/>
                  </a:cubicBezTo>
                  <a:cubicBezTo>
                    <a:pt x="0" y="264"/>
                    <a:pt x="72" y="348"/>
                    <a:pt x="144" y="4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1480" y="4030920"/>
              <a:ext cx="222840" cy="61704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0" y="432"/>
                  </a:moveTo>
                  <a:cubicBezTo>
                    <a:pt x="72" y="348"/>
                    <a:pt x="144" y="264"/>
                    <a:pt x="144" y="192"/>
                  </a:cubicBezTo>
                  <a:cubicBezTo>
                    <a:pt x="144" y="120"/>
                    <a:pt x="72" y="6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90360" y="4648320"/>
              <a:ext cx="222840" cy="61704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144" y="0"/>
                  </a:moveTo>
                  <a:cubicBezTo>
                    <a:pt x="72" y="60"/>
                    <a:pt x="0" y="120"/>
                    <a:pt x="0" y="192"/>
                  </a:cubicBezTo>
                  <a:cubicBezTo>
                    <a:pt x="0" y="264"/>
                    <a:pt x="72" y="348"/>
                    <a:pt x="144" y="4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41480" y="4648320"/>
              <a:ext cx="222840" cy="61704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0" y="432"/>
                  </a:moveTo>
                  <a:cubicBezTo>
                    <a:pt x="72" y="348"/>
                    <a:pt x="144" y="264"/>
                    <a:pt x="144" y="192"/>
                  </a:cubicBezTo>
                  <a:cubicBezTo>
                    <a:pt x="144" y="120"/>
                    <a:pt x="72" y="6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90360" y="5265360"/>
              <a:ext cx="222840" cy="61704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144" y="0"/>
                  </a:moveTo>
                  <a:cubicBezTo>
                    <a:pt x="72" y="60"/>
                    <a:pt x="0" y="120"/>
                    <a:pt x="0" y="192"/>
                  </a:cubicBezTo>
                  <a:cubicBezTo>
                    <a:pt x="0" y="264"/>
                    <a:pt x="72" y="348"/>
                    <a:pt x="144" y="4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41480" y="5265360"/>
              <a:ext cx="222840" cy="61704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0" y="432"/>
                  </a:moveTo>
                  <a:cubicBezTo>
                    <a:pt x="72" y="348"/>
                    <a:pt x="144" y="264"/>
                    <a:pt x="144" y="192"/>
                  </a:cubicBezTo>
                  <a:cubicBezTo>
                    <a:pt x="144" y="120"/>
                    <a:pt x="72" y="6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360" y="5882760"/>
              <a:ext cx="222840" cy="61704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144" y="0"/>
                  </a:moveTo>
                  <a:cubicBezTo>
                    <a:pt x="72" y="60"/>
                    <a:pt x="0" y="120"/>
                    <a:pt x="0" y="192"/>
                  </a:cubicBezTo>
                  <a:cubicBezTo>
                    <a:pt x="0" y="264"/>
                    <a:pt x="72" y="348"/>
                    <a:pt x="144" y="4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41480" y="5882760"/>
              <a:ext cx="222840" cy="61704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0" y="432"/>
                  </a:moveTo>
                  <a:cubicBezTo>
                    <a:pt x="72" y="348"/>
                    <a:pt x="144" y="264"/>
                    <a:pt x="144" y="192"/>
                  </a:cubicBezTo>
                  <a:cubicBezTo>
                    <a:pt x="144" y="120"/>
                    <a:pt x="72" y="6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90360" y="6499800"/>
              <a:ext cx="222840" cy="61704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144" y="0"/>
                  </a:moveTo>
                  <a:cubicBezTo>
                    <a:pt x="72" y="60"/>
                    <a:pt x="0" y="120"/>
                    <a:pt x="0" y="192"/>
                  </a:cubicBezTo>
                  <a:cubicBezTo>
                    <a:pt x="0" y="264"/>
                    <a:pt x="72" y="348"/>
                    <a:pt x="144" y="4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641480" y="6499800"/>
              <a:ext cx="222840" cy="61704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0" y="432"/>
                  </a:moveTo>
                  <a:cubicBezTo>
                    <a:pt x="72" y="348"/>
                    <a:pt x="144" y="264"/>
                    <a:pt x="144" y="192"/>
                  </a:cubicBezTo>
                  <a:cubicBezTo>
                    <a:pt x="144" y="120"/>
                    <a:pt x="72" y="6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28800" y="7117200"/>
              <a:ext cx="656640" cy="548280"/>
            </a:xfrm>
            <a:custGeom>
              <a:avLst/>
              <a:gdLst/>
              <a:ahLst/>
              <a:rect l="l" t="t" r="r" b="b"/>
              <a:pathLst>
                <a:path w="424" h="384">
                  <a:moveTo>
                    <a:pt x="184" y="0"/>
                  </a:moveTo>
                  <a:cubicBezTo>
                    <a:pt x="92" y="16"/>
                    <a:pt x="0" y="32"/>
                    <a:pt x="40" y="96"/>
                  </a:cubicBezTo>
                  <a:cubicBezTo>
                    <a:pt x="80" y="160"/>
                    <a:pt x="252" y="272"/>
                    <a:pt x="424" y="38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20920" y="7117200"/>
              <a:ext cx="755640" cy="548280"/>
            </a:xfrm>
            <a:custGeom>
              <a:avLst/>
              <a:gdLst/>
              <a:ahLst/>
              <a:rect l="l" t="t" r="r" b="b"/>
              <a:pathLst>
                <a:path w="488" h="384">
                  <a:moveTo>
                    <a:pt x="336" y="0"/>
                  </a:moveTo>
                  <a:cubicBezTo>
                    <a:pt x="412" y="16"/>
                    <a:pt x="488" y="32"/>
                    <a:pt x="432" y="96"/>
                  </a:cubicBezTo>
                  <a:cubicBezTo>
                    <a:pt x="376" y="160"/>
                    <a:pt x="188" y="272"/>
                    <a:pt x="0" y="38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D3452-82CB-4C70-80D8-4F6EBAD995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9960" y="609480"/>
            <a:ext cx="577224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a20b6b"/>
                </a:solidFill>
                <a:latin typeface="Arial"/>
              </a:rPr>
              <a:t>Architectural Style Example(3/3)</a:t>
            </a:r>
            <a:endParaRPr b="1" lang="en-US" sz="2800" spc="-1" strike="noStrike">
              <a:solidFill>
                <a:srgbClr val="a20b6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9960" y="18284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ackboards(Shafer, 8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080" y="2590920"/>
            <a:ext cx="5181840" cy="5107320"/>
            <a:chOff x="685080" y="2590920"/>
            <a:chExt cx="5181840" cy="5107320"/>
          </a:xfrm>
        </p:grpSpPr>
        <p:sp>
          <p:nvSpPr>
            <p:cNvPr id="168" name=""/>
            <p:cNvSpPr/>
            <p:nvPr/>
          </p:nvSpPr>
          <p:spPr>
            <a:xfrm>
              <a:off x="1735920" y="2604960"/>
              <a:ext cx="106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apt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28440" y="2971800"/>
              <a:ext cx="990360" cy="38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3560" y="2971800"/>
              <a:ext cx="990360" cy="38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1760" y="3809880"/>
              <a:ext cx="990360" cy="38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76560" y="3809880"/>
              <a:ext cx="990360" cy="38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52480" y="4572000"/>
              <a:ext cx="3047400" cy="685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371240" y="5867280"/>
              <a:ext cx="3809880" cy="182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77680" y="2590920"/>
              <a:ext cx="180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p navig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5080" y="341316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ook 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30560" y="34290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il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83720" y="4708440"/>
              <a:ext cx="145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lackbo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52480" y="6095880"/>
              <a:ext cx="990000" cy="38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38280" y="6705360"/>
              <a:ext cx="9900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733560" y="6705360"/>
              <a:ext cx="9903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62160" y="6019560"/>
              <a:ext cx="9903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053800" y="7299360"/>
              <a:ext cx="253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ception sub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61960" y="3352680"/>
              <a:ext cx="53316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99840" y="4190760"/>
              <a:ext cx="761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580920" y="3352680"/>
              <a:ext cx="38052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4114080" y="4190760"/>
              <a:ext cx="9140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285640" y="5257440"/>
              <a:ext cx="22824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2895480" y="5257800"/>
              <a:ext cx="151920" cy="144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3504600" y="5257800"/>
              <a:ext cx="380520" cy="144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3809520" y="5257440"/>
              <a:ext cx="380520" cy="76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1E28C-9F44-4279-B9FF-EA1C64ABD0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9960" y="609480"/>
            <a:ext cx="577224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a20b6b"/>
                </a:solidFill>
                <a:latin typeface="Arial"/>
              </a:rPr>
              <a:t>What is a Framework ?</a:t>
            </a:r>
            <a:endParaRPr b="1" lang="en-US" sz="2800" spc="-1" strike="noStrike">
              <a:solidFill>
                <a:srgbClr val="a20b6b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9960" y="1828800"/>
            <a:ext cx="5943600" cy="62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framework is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reusable desig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pressed as a set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bstract class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the way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their instances collabora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usable mini-architecture that provide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the generic structure and behavi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or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family of software abst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+ Code(abstract classes and their default implement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ameworks are a kind of domain-specific architecture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ill Tracz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CM SE not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199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0C6A9-1E07-4E9B-B34D-F29AD791FC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9960" y="609480"/>
            <a:ext cx="577224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a20b6b"/>
                </a:solidFill>
                <a:latin typeface="Arial"/>
              </a:rPr>
              <a:t>Major Differences to Patterns</a:t>
            </a:r>
            <a:endParaRPr b="1" lang="en-US" sz="2800" spc="-1" strike="noStrike">
              <a:solidFill>
                <a:srgbClr val="a20b6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99960" y="1828800"/>
            <a:ext cx="5943600" cy="62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Patterns are more abstract than frame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works can be embodied in code, bu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nly examples of patterns can be embodied in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patterns are smallest architectural elements than frame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framework contains several design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patterns are less specialized than frame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works always have a particular application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7D465-E155-49A1-8B0B-2F0C9C238F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9960" y="609480"/>
            <a:ext cx="577224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a20b6b"/>
                </a:solidFill>
                <a:latin typeface="Arial"/>
              </a:rPr>
              <a:t>Major Differences to Class Lib.</a:t>
            </a:r>
            <a:endParaRPr b="1" lang="en-US" sz="2800" spc="-1" strike="noStrike">
              <a:solidFill>
                <a:srgbClr val="a20b6b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9960" y="1828440"/>
            <a:ext cx="5943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ameworks are dynamic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libraries are static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ameworks contain all of the follow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, architecture, design, implemen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 libraries contain onl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and co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ameworks are like miniature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libraries do not embody any kind of applic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ameworks include application flow built upon a pre-determined archite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libraries provide specific functionality that can be included in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181480" y="3581280"/>
            <a:ext cx="695520" cy="6955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486400" y="1828800"/>
            <a:ext cx="581040" cy="73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2C359-6BB7-4ADC-87CE-909AF17CE4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9960" y="609480"/>
            <a:ext cx="577224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a20b6b"/>
                </a:solidFill>
                <a:latin typeface="Arial"/>
              </a:rPr>
              <a:t>Baroque Architecture(1/3)</a:t>
            </a:r>
            <a:endParaRPr b="1" lang="en-US" sz="2800" spc="-1" strike="noStrike">
              <a:solidFill>
                <a:srgbClr val="a20b6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9960" y="1828800"/>
            <a:ext cx="5943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5th century in It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76520" y="2590920"/>
            <a:ext cx="3286080" cy="2216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90720" y="4952880"/>
            <a:ext cx="4724280" cy="1519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590920" y="6553080"/>
            <a:ext cx="3276360" cy="150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8F0A8-B4C7-4E19-B143-7C859C4305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9960" y="609480"/>
            <a:ext cx="577224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a20b6b"/>
                </a:solidFill>
                <a:latin typeface="Arial"/>
              </a:rPr>
              <a:t>How to Use Framework(1/3)</a:t>
            </a:r>
            <a:endParaRPr b="1" lang="en-US" sz="2800" spc="-1" strike="noStrike">
              <a:solidFill>
                <a:srgbClr val="a20b6b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9960" y="18284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rst, understand a frame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33520" y="3733920"/>
            <a:ext cx="5638320" cy="3047760"/>
            <a:chOff x="533520" y="3733920"/>
            <a:chExt cx="5638320" cy="304776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 flipH="1">
              <a:off x="533520" y="4263840"/>
              <a:ext cx="864720" cy="17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 flipH="1" flipV="1">
              <a:off x="1660680" y="3733920"/>
              <a:ext cx="4510800" cy="3047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4902480" y="4992480"/>
              <a:ext cx="986760" cy="662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3986640" y="5853960"/>
              <a:ext cx="1479960" cy="662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2295720" y="5522040"/>
              <a:ext cx="986400" cy="463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2295720" y="4065120"/>
              <a:ext cx="986400" cy="662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2295720" y="4860000"/>
              <a:ext cx="986400" cy="463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282120" y="4396320"/>
              <a:ext cx="422640" cy="46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2788920" y="4727160"/>
              <a:ext cx="0" cy="13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53040" y="5787720"/>
              <a:ext cx="704520" cy="26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268880" y="5324040"/>
              <a:ext cx="493200" cy="463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4832640" y="5589000"/>
              <a:ext cx="492840" cy="19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3564360" y="4528800"/>
              <a:ext cx="1198080" cy="927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DCCBE-011C-4729-AE23-D84FA60C99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9960" y="609480"/>
            <a:ext cx="577224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a20b6b"/>
                </a:solidFill>
                <a:latin typeface="Arial"/>
              </a:rPr>
              <a:t>How to Use Framework (2/3)</a:t>
            </a:r>
            <a:endParaRPr b="1" lang="en-US" sz="2800" spc="-1" strike="noStrike">
              <a:solidFill>
                <a:srgbClr val="a20b6b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9960" y="1828440"/>
            <a:ext cx="59436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d the frame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new classes and plug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se existing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762120" y="4038480"/>
            <a:ext cx="5257440" cy="3200400"/>
            <a:chOff x="762120" y="4038480"/>
            <a:chExt cx="5257440" cy="3200400"/>
          </a:xfrm>
        </p:grpSpPr>
        <p:sp>
          <p:nvSpPr>
            <p:cNvPr id="219" name=""/>
            <p:cNvSpPr/>
            <p:nvPr/>
          </p:nvSpPr>
          <p:spPr>
            <a:xfrm flipH="1" flipV="1">
              <a:off x="1915200" y="4038480"/>
              <a:ext cx="4103640" cy="3200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4865760" y="5360400"/>
              <a:ext cx="897840" cy="695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4032360" y="6264000"/>
              <a:ext cx="1346400" cy="69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2492640" y="5915880"/>
              <a:ext cx="897480" cy="487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2492640" y="4385520"/>
              <a:ext cx="897480" cy="69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2492640" y="5221080"/>
              <a:ext cx="897480" cy="486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390840" y="4734000"/>
              <a:ext cx="384480" cy="48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2941920" y="5081400"/>
              <a:ext cx="0" cy="13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454920" y="6195240"/>
              <a:ext cx="640800" cy="27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88320" y="5708160"/>
              <a:ext cx="448920" cy="48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801680" y="5986440"/>
              <a:ext cx="448560" cy="20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762120" y="5012640"/>
              <a:ext cx="479520" cy="151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 flipH="1" flipV="1">
              <a:off x="2300040" y="4455720"/>
              <a:ext cx="897480" cy="6955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flipV="1">
              <a:off x="3839760" y="6334200"/>
              <a:ext cx="1346400" cy="6955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>
              <a:off x="3646800" y="4873320"/>
              <a:ext cx="1089720" cy="974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71305-193A-484D-8C51-38EF66C0EC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9960" y="609480"/>
            <a:ext cx="577224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a20b6b"/>
                </a:solidFill>
                <a:latin typeface="Arial"/>
              </a:rPr>
              <a:t>How to Use Framework (3/3)</a:t>
            </a:r>
            <a:endParaRPr b="1" lang="en-US" sz="2800" spc="-1" strike="noStrike">
              <a:solidFill>
                <a:srgbClr val="a20b6b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9960" y="18288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0000"/>
          </a:bodyPr>
          <a:p>
            <a:pPr marL="171360" indent="-171360"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llywood princi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142920"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n’t call us, we’ll call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eyhound princi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142920"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aving the driving to 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684720" y="4037760"/>
            <a:ext cx="4876920" cy="350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4190400" y="5485680"/>
            <a:ext cx="10666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3199680" y="6477120"/>
            <a:ext cx="1600200" cy="761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1370880" y="6095880"/>
            <a:ext cx="10666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1370880" y="4419720"/>
            <a:ext cx="1066680" cy="761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1370880" y="5333400"/>
            <a:ext cx="10666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38280" y="4800600"/>
            <a:ext cx="45720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905120" y="5181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14600" y="6400800"/>
            <a:ext cx="76212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505320" y="5867280"/>
            <a:ext cx="53316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114800" y="6172200"/>
            <a:ext cx="53352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1142280" y="4494960"/>
            <a:ext cx="1066680" cy="7621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2971080" y="6552360"/>
            <a:ext cx="1600200" cy="7621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2743200" y="4952880"/>
            <a:ext cx="1295280" cy="106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23880" y="3936960"/>
            <a:ext cx="635040" cy="482760"/>
          </a:xfrm>
          <a:custGeom>
            <a:avLst/>
            <a:gdLst/>
            <a:ahLst/>
            <a:rect l="l" t="t" r="r" b="b"/>
            <a:pathLst>
              <a:path w="400" h="304">
                <a:moveTo>
                  <a:pt x="400" y="256"/>
                </a:moveTo>
                <a:cubicBezTo>
                  <a:pt x="396" y="180"/>
                  <a:pt x="392" y="104"/>
                  <a:pt x="352" y="64"/>
                </a:cubicBezTo>
                <a:cubicBezTo>
                  <a:pt x="312" y="24"/>
                  <a:pt x="216" y="0"/>
                  <a:pt x="160" y="16"/>
                </a:cubicBezTo>
                <a:cubicBezTo>
                  <a:pt x="104" y="32"/>
                  <a:pt x="32" y="112"/>
                  <a:pt x="16" y="160"/>
                </a:cubicBezTo>
                <a:cubicBezTo>
                  <a:pt x="0" y="208"/>
                  <a:pt x="64" y="280"/>
                  <a:pt x="64" y="30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0" y="6934320"/>
            <a:ext cx="533520" cy="393480"/>
          </a:xfrm>
          <a:custGeom>
            <a:avLst/>
            <a:gdLst/>
            <a:ahLst/>
            <a:rect l="l" t="t" r="r" b="b"/>
            <a:pathLst>
              <a:path w="336" h="248">
                <a:moveTo>
                  <a:pt x="192" y="0"/>
                </a:moveTo>
                <a:cubicBezTo>
                  <a:pt x="264" y="28"/>
                  <a:pt x="336" y="56"/>
                  <a:pt x="336" y="96"/>
                </a:cubicBezTo>
                <a:cubicBezTo>
                  <a:pt x="336" y="136"/>
                  <a:pt x="240" y="232"/>
                  <a:pt x="192" y="240"/>
                </a:cubicBezTo>
                <a:cubicBezTo>
                  <a:pt x="144" y="248"/>
                  <a:pt x="80" y="176"/>
                  <a:pt x="48" y="144"/>
                </a:cubicBezTo>
                <a:cubicBezTo>
                  <a:pt x="16" y="112"/>
                  <a:pt x="8" y="80"/>
                  <a:pt x="0" y="4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28800" y="365724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05520" y="716256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2AF0C-B946-45E3-92D7-91CD7CCF40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9960" y="609480"/>
            <a:ext cx="577224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a20b6b"/>
                </a:solidFill>
                <a:latin typeface="Arial"/>
              </a:rPr>
              <a:t>IBM Sanfrancisco Project(1/3)</a:t>
            </a:r>
            <a:endParaRPr b="1" lang="en-US" sz="2800" spc="-1" strike="noStrike">
              <a:solidFill>
                <a:srgbClr val="a20b6b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99960" y="1828800"/>
            <a:ext cx="5943600" cy="62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Java-based collection of component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at allows developers to assembl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server-side business applicatio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xisting part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rather than build from scrat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nables software development 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eep pace with the changing nee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nFrancisco aims to sav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bout 40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overall effort it takes to build an application from scrat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723960" y="1905120"/>
            <a:ext cx="5524560" cy="521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F4D92-70AF-4F53-A032-F3971AD488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9960" y="609480"/>
            <a:ext cx="577224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a20b6b"/>
                </a:solidFill>
                <a:latin typeface="Arial"/>
              </a:rPr>
              <a:t>IBM Sanfrancisco Project(2/3)</a:t>
            </a:r>
            <a:endParaRPr b="1" lang="en-US" sz="2800" spc="-1" strike="noStrike">
              <a:solidFill>
                <a:srgbClr val="a20b6b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99960" y="18288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volution of Automated Business Management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609480" y="2895480"/>
            <a:ext cx="5092920" cy="24926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380880" y="5715000"/>
            <a:ext cx="594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3000"/>
          </a:bodyPr>
          <a:p>
            <a:pPr marL="181800" indent="-181800">
              <a:lnSpc>
                <a:spcPct val="100000"/>
              </a:lnSpc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llowing technology trends have influenced and complicated this evolution fur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3480" indent="-151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-server 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93480" indent="-151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-oriented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93480" indent="-151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rcial Frame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B67A7-0076-4598-8017-B2AC8575B7B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9960" y="609480"/>
            <a:ext cx="577224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a20b6b"/>
                </a:solidFill>
                <a:latin typeface="Arial"/>
              </a:rPr>
              <a:t>IBM Sanfrancisco Project(3/3)</a:t>
            </a:r>
            <a:endParaRPr b="1" lang="en-US" sz="2800" spc="-1" strike="noStrike">
              <a:solidFill>
                <a:srgbClr val="a20b6b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9960" y="1828800"/>
            <a:ext cx="5943600" cy="62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nfrancisco framework provi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application business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the complexity, expense, and time to market f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dependent Software Vendors (ISV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build customized multi-platform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propositions 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en and tested OO technology base to enable transition to Java technolog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able common application elements to shorten development cyc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application development costs and faster development for software develop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irected focus of application developers on business or domain problems instead of programming and technology infrastructure proble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01440-93F1-4C65-B787-4EA96152B4B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9960" y="609480"/>
            <a:ext cx="577224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a20b6b"/>
                </a:solidFill>
                <a:latin typeface="Arial"/>
              </a:rPr>
              <a:t>Baroque Architecture(2/3)</a:t>
            </a:r>
            <a:endParaRPr b="1" lang="en-US" sz="2800" spc="-1" strike="noStrike">
              <a:solidFill>
                <a:srgbClr val="a20b6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9960" y="1828800"/>
            <a:ext cx="5943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7th century in It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6067440" cy="428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3D006-C02F-4CC2-B7F8-F23D8FD693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9960" y="609480"/>
            <a:ext cx="577224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a20b6b"/>
                </a:solidFill>
                <a:latin typeface="Arial"/>
              </a:rPr>
              <a:t>Baroque Architecture(3/3)</a:t>
            </a:r>
            <a:endParaRPr b="1" lang="en-US" sz="2800" spc="-1" strike="noStrike">
              <a:solidFill>
                <a:srgbClr val="a20b6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9960" y="18284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roque Patte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90920" y="2362320"/>
            <a:ext cx="1039680" cy="1676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143000" y="4419720"/>
            <a:ext cx="1905120" cy="852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343400" y="5181480"/>
            <a:ext cx="517680" cy="192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081D6-F174-4A62-B24D-DD1FE51E52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9960" y="609480"/>
            <a:ext cx="577224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a20b6b"/>
                </a:solidFill>
                <a:latin typeface="Arial"/>
              </a:rPr>
              <a:t>Similarities ?!(1/3)</a:t>
            </a:r>
            <a:endParaRPr b="1" lang="en-US" sz="2800" spc="-1" strike="noStrike">
              <a:solidFill>
                <a:srgbClr val="a20b6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9960" y="1828800"/>
            <a:ext cx="5943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onents of Baroque Ho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1905120" cy="852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267080" y="2362320"/>
            <a:ext cx="517680" cy="1923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338280" y="27828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26040" y="27432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x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4600" y="518148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362320" y="4648320"/>
            <a:ext cx="186048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AD754-3EC5-4DD4-AB2B-3F8D0C8585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9960" y="609480"/>
            <a:ext cx="577224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a20b6b"/>
                </a:solidFill>
                <a:latin typeface="Arial"/>
              </a:rPr>
              <a:t>Similarities ?!(2/3)</a:t>
            </a:r>
            <a:endParaRPr b="1" lang="en-US" sz="2800" spc="-1" strike="noStrike">
              <a:solidFill>
                <a:srgbClr val="a20b6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9960" y="18288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chitectural Design for Ho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overall house design, us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roque architectural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66680" y="6539040"/>
            <a:ext cx="1905120" cy="8524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143000" y="6710400"/>
            <a:ext cx="1676520" cy="457200"/>
          </a:xfrm>
          <a:custGeom>
            <a:avLst/>
            <a:gdLst/>
            <a:ahLst/>
            <a:rect l="l" t="t" r="r" b="b"/>
            <a:pathLst>
              <a:path w="1056" h="288">
                <a:moveTo>
                  <a:pt x="0" y="240"/>
                </a:moveTo>
                <a:lnTo>
                  <a:pt x="576" y="0"/>
                </a:lnTo>
                <a:lnTo>
                  <a:pt x="1056" y="240"/>
                </a:lnTo>
                <a:lnTo>
                  <a:pt x="576" y="288"/>
                </a:lnTo>
                <a:lnTo>
                  <a:pt x="144" y="288"/>
                </a:lnTo>
                <a:lnTo>
                  <a:pt x="0" y="24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5105520"/>
            <a:ext cx="5943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component design, us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roque pat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438280" y="2971800"/>
            <a:ext cx="1860840" cy="2133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438280" y="3124080"/>
            <a:ext cx="1676520" cy="457200"/>
          </a:xfrm>
          <a:custGeom>
            <a:avLst/>
            <a:gdLst/>
            <a:ahLst/>
            <a:rect l="l" t="t" r="r" b="b"/>
            <a:pathLst>
              <a:path w="1056" h="288">
                <a:moveTo>
                  <a:pt x="0" y="240"/>
                </a:moveTo>
                <a:lnTo>
                  <a:pt x="576" y="0"/>
                </a:lnTo>
                <a:lnTo>
                  <a:pt x="1056" y="240"/>
                </a:lnTo>
                <a:lnTo>
                  <a:pt x="576" y="288"/>
                </a:lnTo>
                <a:lnTo>
                  <a:pt x="144" y="288"/>
                </a:lnTo>
                <a:lnTo>
                  <a:pt x="0" y="24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3657600"/>
            <a:ext cx="228600" cy="1371600"/>
          </a:xfrm>
          <a:custGeom>
            <a:avLst/>
            <a:gdLst/>
            <a:ahLst/>
            <a:rect l="l" t="t" r="r" b="b"/>
            <a:pathLst>
              <a:path w="240" h="1152">
                <a:moveTo>
                  <a:pt x="0" y="0"/>
                </a:moveTo>
                <a:lnTo>
                  <a:pt x="240" y="0"/>
                </a:lnTo>
                <a:lnTo>
                  <a:pt x="144" y="144"/>
                </a:lnTo>
                <a:lnTo>
                  <a:pt x="144" y="1008"/>
                </a:lnTo>
                <a:lnTo>
                  <a:pt x="240" y="1104"/>
                </a:lnTo>
                <a:lnTo>
                  <a:pt x="0" y="1152"/>
                </a:lnTo>
                <a:lnTo>
                  <a:pt x="48" y="1056"/>
                </a:lnTo>
                <a:lnTo>
                  <a:pt x="48" y="144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71800" y="3657600"/>
            <a:ext cx="228600" cy="1371600"/>
          </a:xfrm>
          <a:custGeom>
            <a:avLst/>
            <a:gdLst/>
            <a:ahLst/>
            <a:rect l="l" t="t" r="r" b="b"/>
            <a:pathLst>
              <a:path w="240" h="1152">
                <a:moveTo>
                  <a:pt x="0" y="0"/>
                </a:moveTo>
                <a:lnTo>
                  <a:pt x="240" y="0"/>
                </a:lnTo>
                <a:lnTo>
                  <a:pt x="144" y="144"/>
                </a:lnTo>
                <a:lnTo>
                  <a:pt x="144" y="1008"/>
                </a:lnTo>
                <a:lnTo>
                  <a:pt x="240" y="1104"/>
                </a:lnTo>
                <a:lnTo>
                  <a:pt x="0" y="1152"/>
                </a:lnTo>
                <a:lnTo>
                  <a:pt x="48" y="1056"/>
                </a:lnTo>
                <a:lnTo>
                  <a:pt x="48" y="144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52680" y="3657600"/>
            <a:ext cx="228600" cy="1371600"/>
          </a:xfrm>
          <a:custGeom>
            <a:avLst/>
            <a:gdLst/>
            <a:ahLst/>
            <a:rect l="l" t="t" r="r" b="b"/>
            <a:pathLst>
              <a:path w="240" h="1152">
                <a:moveTo>
                  <a:pt x="0" y="0"/>
                </a:moveTo>
                <a:lnTo>
                  <a:pt x="240" y="0"/>
                </a:lnTo>
                <a:lnTo>
                  <a:pt x="144" y="144"/>
                </a:lnTo>
                <a:lnTo>
                  <a:pt x="144" y="1008"/>
                </a:lnTo>
                <a:lnTo>
                  <a:pt x="240" y="1104"/>
                </a:lnTo>
                <a:lnTo>
                  <a:pt x="0" y="1152"/>
                </a:lnTo>
                <a:lnTo>
                  <a:pt x="48" y="1056"/>
                </a:lnTo>
                <a:lnTo>
                  <a:pt x="48" y="144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3657600"/>
            <a:ext cx="228600" cy="1371600"/>
          </a:xfrm>
          <a:custGeom>
            <a:avLst/>
            <a:gdLst/>
            <a:ahLst/>
            <a:rect l="l" t="t" r="r" b="b"/>
            <a:pathLst>
              <a:path w="240" h="1152">
                <a:moveTo>
                  <a:pt x="0" y="0"/>
                </a:moveTo>
                <a:lnTo>
                  <a:pt x="240" y="0"/>
                </a:lnTo>
                <a:lnTo>
                  <a:pt x="144" y="144"/>
                </a:lnTo>
                <a:lnTo>
                  <a:pt x="144" y="1008"/>
                </a:lnTo>
                <a:lnTo>
                  <a:pt x="240" y="1104"/>
                </a:lnTo>
                <a:lnTo>
                  <a:pt x="0" y="1152"/>
                </a:lnTo>
                <a:lnTo>
                  <a:pt x="48" y="1056"/>
                </a:lnTo>
                <a:lnTo>
                  <a:pt x="48" y="144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419720" y="6095880"/>
            <a:ext cx="517320" cy="1924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495680" y="6114960"/>
            <a:ext cx="381240" cy="1828800"/>
          </a:xfrm>
          <a:custGeom>
            <a:avLst/>
            <a:gdLst/>
            <a:ahLst/>
            <a:rect l="l" t="t" r="r" b="b"/>
            <a:pathLst>
              <a:path w="240" h="1152">
                <a:moveTo>
                  <a:pt x="0" y="0"/>
                </a:moveTo>
                <a:lnTo>
                  <a:pt x="240" y="0"/>
                </a:lnTo>
                <a:lnTo>
                  <a:pt x="144" y="144"/>
                </a:lnTo>
                <a:lnTo>
                  <a:pt x="144" y="1008"/>
                </a:lnTo>
                <a:lnTo>
                  <a:pt x="240" y="1104"/>
                </a:lnTo>
                <a:lnTo>
                  <a:pt x="0" y="1152"/>
                </a:lnTo>
                <a:lnTo>
                  <a:pt x="48" y="1056"/>
                </a:lnTo>
                <a:lnTo>
                  <a:pt x="48" y="144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4D623-FEE4-43C8-899D-E5E7CF2F71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9960" y="609480"/>
            <a:ext cx="577224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a20b6b"/>
                </a:solidFill>
                <a:latin typeface="Arial"/>
              </a:rPr>
              <a:t>Similarities ?! (3/3)</a:t>
            </a:r>
            <a:endParaRPr b="1" lang="en-US" sz="2800" spc="-1" strike="noStrike">
              <a:solidFill>
                <a:srgbClr val="a20b6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9960" y="1828800"/>
            <a:ext cx="5943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e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76520" y="2590920"/>
            <a:ext cx="3286080" cy="2216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80880" y="5029200"/>
            <a:ext cx="5943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ur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057400" y="5486400"/>
            <a:ext cx="2895480" cy="1982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80880" y="7543800"/>
            <a:ext cx="5943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main Specific Architecture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681F5-9F45-40D2-B0D3-B147953185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9960" y="609480"/>
            <a:ext cx="577224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a20b6b"/>
                </a:solidFill>
                <a:latin typeface="Arial"/>
              </a:rPr>
              <a:t>Motivations for Patterns and Frameworks</a:t>
            </a:r>
            <a:endParaRPr b="1" lang="en-US" sz="2800" spc="-1" strike="noStrike">
              <a:solidFill>
                <a:srgbClr val="a20b6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9960" y="1828800"/>
            <a:ext cx="5943600" cy="62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ing system desig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becomes large and comple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 for capturing design fo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O itself is not well suited to describing complex interactions btw groups of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aring “Certified” design information among develop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s as a good solution for similar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clear vocabu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ought “software architecture” concep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tern Vs. architectural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BDB0D-D75B-48AD-871E-5AFB0A60AA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9960" y="609480"/>
            <a:ext cx="577224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a20b6b"/>
                </a:solidFill>
                <a:latin typeface="Arial"/>
              </a:rPr>
              <a:t>What is a Pattern and Benefits ?</a:t>
            </a:r>
            <a:endParaRPr b="1" lang="en-US" sz="2800" spc="-1" strike="noStrike">
              <a:solidFill>
                <a:srgbClr val="a20b6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9960" y="1828800"/>
            <a:ext cx="5943600" cy="62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attern is an essay that describ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blem to be s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xt in which that solution 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a20b6b"/>
              </a:buClr>
              <a:buSzPct val="8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nefits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Marlett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ify recurring solutions and name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98760" y="4724280"/>
            <a:ext cx="0" cy="241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1080" y="711252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efore Patt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95480" y="7112520"/>
            <a:ext cx="21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fter Patt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09480" y="6026040"/>
            <a:ext cx="660600" cy="118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621240" y="5959440"/>
            <a:ext cx="660240" cy="1182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 flipH="1">
            <a:off x="2562120" y="5959440"/>
            <a:ext cx="471600" cy="1249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5470560" y="5743440"/>
            <a:ext cx="382680" cy="1398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80880" y="4724280"/>
            <a:ext cx="2895840" cy="1219320"/>
          </a:xfrm>
          <a:prstGeom prst="wedgeRoundRectCallout">
            <a:avLst>
              <a:gd name="adj1" fmla="val -26865"/>
              <a:gd name="adj2" fmla="val 57421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 this case, we define two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teracting classe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or maintaining consistency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..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4724280"/>
            <a:ext cx="2514600" cy="766800"/>
          </a:xfrm>
          <a:prstGeom prst="wedgeRoundRectCallout">
            <a:avLst>
              <a:gd name="adj1" fmla="val -31879"/>
              <a:gd name="adj2" fmla="val 81472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 this case,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 use observer patter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371600" y="6172200"/>
            <a:ext cx="1000080" cy="905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4257720" y="6172200"/>
            <a:ext cx="1000080" cy="90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ABD9E-11B0-4A5F-8646-7EC95CE8B1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6T02:18:18Z</dcterms:created>
  <dc:creator>Sang Y. Min</dc:creator>
  <dc:description/>
  <dc:language>en-US</dc:language>
  <cp:lastModifiedBy>WINXP</cp:lastModifiedBy>
  <cp:lastPrinted>1999-02-04T22:21:10Z</cp:lastPrinted>
  <dcterms:modified xsi:type="dcterms:W3CDTF">2008-10-28T07:55:17Z</dcterms:modified>
  <cp:revision>341</cp:revision>
  <dc:subject/>
  <dc:title>Cover Page Template For SE Lab</dc:title>
</cp:coreProperties>
</file>