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9600" y="228240"/>
            <a:ext cx="8363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363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520" y="3696840"/>
            <a:ext cx="8363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9600" y="228240"/>
            <a:ext cx="8363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8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5960" y="990360"/>
            <a:ext cx="408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520" y="3696840"/>
            <a:ext cx="408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5960" y="3696840"/>
            <a:ext cx="408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9600" y="228240"/>
            <a:ext cx="8363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2692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08320" y="990360"/>
            <a:ext cx="2692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6120" y="990360"/>
            <a:ext cx="2692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520" y="3696840"/>
            <a:ext cx="2692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08320" y="3696840"/>
            <a:ext cx="2692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6120" y="3696840"/>
            <a:ext cx="2692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99600" y="228240"/>
            <a:ext cx="8363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520" y="990360"/>
            <a:ext cx="8363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9600" y="228240"/>
            <a:ext cx="8363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363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9600" y="228240"/>
            <a:ext cx="8363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80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5960" y="990360"/>
            <a:ext cx="4080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9600" y="228240"/>
            <a:ext cx="8363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99600" y="228240"/>
            <a:ext cx="83631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9600" y="228240"/>
            <a:ext cx="8363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8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990360"/>
            <a:ext cx="4080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520" y="3696840"/>
            <a:ext cx="408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9600" y="228240"/>
            <a:ext cx="8363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80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990360"/>
            <a:ext cx="408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5960" y="3696840"/>
            <a:ext cx="408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9600" y="228240"/>
            <a:ext cx="8363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8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990360"/>
            <a:ext cx="4080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520" y="3696840"/>
            <a:ext cx="8363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new%20background" descr=""/>
          <p:cNvPicPr/>
          <p:nvPr/>
        </p:nvPicPr>
        <p:blipFill>
          <a:blip r:embed="rId3"/>
          <a:stretch/>
        </p:blipFill>
        <p:spPr>
          <a:xfrm>
            <a:off x="0" y="-2232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9600" y="228240"/>
            <a:ext cx="8363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990360"/>
            <a:ext cx="8363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4128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eliot@isogen.co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1676520"/>
            <a:ext cx="8458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ing UML To Define XML Document Typ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. Eliot Kimb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D. Heint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9600" y="228240"/>
            <a:ext cx="8363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actical Difficulties of DTD Develop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363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s for developing DTDs not integrated with other system desig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tandard graphical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engineer system objects and models from DT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integrate DTD documentation with DTD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TDs are not modular, making management of related DTDs difficul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TDs are not inherently share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9600" y="228240"/>
            <a:ext cx="8363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Had To Reject Traditional Approa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363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ed to apply formal system modeling to XML-bas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focus on DTDs, XML document type components could be bound to implementation definition only through documentation st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automated tracability from requirements to XML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icult to define relationships among XML data and related code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icult to define relationships among different XML components (architectures provide some but not al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capture re-usable XML parts of de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TD documentation became unmanag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ion: Map Object Models to XML Document Typ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e realize that DTDs are just implementation refinements of higher-level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9600" y="228240"/>
            <a:ext cx="8363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pping Objects to Document Type Defini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363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TD becomes implementation view of higher-level abstraction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focus is on business objects not data representation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eability from system objects and formal requirements to DTD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use facilities of modeling language not available in DT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ind documentation directly to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use formal constraints to define semantic and syntactic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9600" y="228240"/>
            <a:ext cx="8363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finement: Relating Layers of Abstra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363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plete system model will have several layers of abstra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-level system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requirement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desig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 in one level will be reflected in other levels, but not necessarily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tracability requires formal mapping from objects in one level to objects in the adjacent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number of implementation models can refine a given functio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9600" y="228240"/>
            <a:ext cx="8363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inement from High to Low Abstra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819520" y="1066680"/>
            <a:ext cx="2809800" cy="1752840"/>
            <a:chOff x="2819520" y="1066680"/>
            <a:chExt cx="2809800" cy="1752840"/>
          </a:xfrm>
        </p:grpSpPr>
        <p:sp>
          <p:nvSpPr>
            <p:cNvPr id="69" name=""/>
            <p:cNvSpPr/>
            <p:nvPr/>
          </p:nvSpPr>
          <p:spPr>
            <a:xfrm>
              <a:off x="2819520" y="1447920"/>
              <a:ext cx="2666880" cy="13716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276720" y="1828800"/>
              <a:ext cx="380880" cy="457200"/>
            </a:xfrm>
            <a:prstGeom prst="rect">
              <a:avLst/>
            </a:prstGeom>
            <a:solidFill>
              <a:srgbClr val="93a1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419720" y="1828800"/>
              <a:ext cx="380880" cy="457200"/>
            </a:xfrm>
            <a:prstGeom prst="rect">
              <a:avLst/>
            </a:prstGeom>
            <a:solidFill>
              <a:srgbClr val="93a1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657600" y="205740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22760" y="1066680"/>
              <a:ext cx="28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bstract System Desig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852840" y="2895120"/>
            <a:ext cx="2936160" cy="3111840"/>
            <a:chOff x="852840" y="2895120"/>
            <a:chExt cx="2936160" cy="3111840"/>
          </a:xfrm>
        </p:grpSpPr>
        <p:sp>
          <p:nvSpPr>
            <p:cNvPr id="75" name=""/>
            <p:cNvSpPr/>
            <p:nvPr/>
          </p:nvSpPr>
          <p:spPr>
            <a:xfrm>
              <a:off x="852840" y="5638680"/>
              <a:ext cx="293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 Implementat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14400" y="4114800"/>
              <a:ext cx="2666880" cy="13716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209680" y="4572000"/>
              <a:ext cx="381240" cy="457200"/>
            </a:xfrm>
            <a:prstGeom prst="rect">
              <a:avLst/>
            </a:prstGeom>
            <a:solidFill>
              <a:srgbClr val="93a1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48120" y="4572000"/>
              <a:ext cx="380880" cy="457200"/>
            </a:xfrm>
            <a:prstGeom prst="rect">
              <a:avLst/>
            </a:prstGeom>
            <a:solidFill>
              <a:srgbClr val="93a1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90920" y="480060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43000" y="4952880"/>
              <a:ext cx="380880" cy="457200"/>
            </a:xfrm>
            <a:prstGeom prst="rect">
              <a:avLst/>
            </a:prstGeom>
            <a:solidFill>
              <a:srgbClr val="93a1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143000" y="4267080"/>
              <a:ext cx="380880" cy="457200"/>
            </a:xfrm>
            <a:prstGeom prst="rect">
              <a:avLst/>
            </a:prstGeom>
            <a:solidFill>
              <a:srgbClr val="93a1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1523520" y="4952880"/>
              <a:ext cx="6858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flipV="1">
              <a:off x="1523520" y="4495320"/>
              <a:ext cx="6858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133720" y="2895120"/>
              <a:ext cx="83808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297440" y="2971800"/>
              <a:ext cx="1424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-&gt;A,C,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-&gt;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726080" y="2895120"/>
            <a:ext cx="2936160" cy="3111840"/>
            <a:chOff x="4726080" y="2895120"/>
            <a:chExt cx="2936160" cy="3111840"/>
          </a:xfrm>
        </p:grpSpPr>
        <p:sp>
          <p:nvSpPr>
            <p:cNvPr id="87" name=""/>
            <p:cNvSpPr/>
            <p:nvPr/>
          </p:nvSpPr>
          <p:spPr>
            <a:xfrm>
              <a:off x="4800600" y="4114800"/>
              <a:ext cx="2666880" cy="13716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324480" y="4572000"/>
              <a:ext cx="381240" cy="457200"/>
            </a:xfrm>
            <a:prstGeom prst="rect">
              <a:avLst/>
            </a:prstGeom>
            <a:solidFill>
              <a:srgbClr val="93a1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334120" y="4267080"/>
              <a:ext cx="380880" cy="457200"/>
            </a:xfrm>
            <a:prstGeom prst="rect">
              <a:avLst/>
            </a:prstGeom>
            <a:solidFill>
              <a:srgbClr val="93a1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334120" y="4952880"/>
              <a:ext cx="380880" cy="457200"/>
            </a:xfrm>
            <a:prstGeom prst="rect">
              <a:avLst/>
            </a:prstGeom>
            <a:solidFill>
              <a:srgbClr val="93a1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715000" y="4495680"/>
              <a:ext cx="60948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5715000" y="4952520"/>
              <a:ext cx="6094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726080" y="5638680"/>
              <a:ext cx="293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 Implementat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5334120" y="2895120"/>
              <a:ext cx="83808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440" y="2895480"/>
              <a:ext cx="1424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-&gt;E,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-&gt;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9600" y="228240"/>
            <a:ext cx="8363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: How To Bind Types to XML Syntax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363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L data models define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have formal, computer-sensible way to map UML types to XML DTD syntactic constructs: elements, attributes, content models, no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ixed mapping from UML graphical components to XML components won’t 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es will be element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es will be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es will be no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direct analog of content models in UML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9600" y="228240"/>
            <a:ext cx="8363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ion: UML Stereotyp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363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reotypes characterize UML syntactic components to add specialized semanti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L does not define how a set of stereotypes is formally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266688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&lt;element&gt;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3352680"/>
            <a:ext cx="16002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828800" y="2666880"/>
            <a:ext cx="4419720" cy="1981440"/>
            <a:chOff x="1828800" y="2666880"/>
            <a:chExt cx="4419720" cy="1981440"/>
          </a:xfrm>
        </p:grpSpPr>
        <p:sp>
          <p:nvSpPr>
            <p:cNvPr id="103" name=""/>
            <p:cNvSpPr/>
            <p:nvPr/>
          </p:nvSpPr>
          <p:spPr>
            <a:xfrm>
              <a:off x="1828800" y="2666880"/>
              <a:ext cx="1600200" cy="19814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48320" y="2666880"/>
              <a:ext cx="1600200" cy="19814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648320" y="266688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&lt;attribute&gt;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3352680"/>
            <a:ext cx="16002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9600" y="228240"/>
            <a:ext cx="8363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onents of Our Solu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363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d to define the set of stereotypes needed to enable mapping to XML DTD syn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to define the semantics of those stereo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the stereotypes as UML types in their own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l constraints on these types plus prose documentation defines the seman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XML stereotypes in turn map back to the formal models for XML as defined by ISO and/or W3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ereotypes reflect the abstract model for XML DTD declarations (element type, attribute, notation, etc.)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can map to any XML DTD representation syntax (markup declarations, XML Schema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9600" y="228240"/>
            <a:ext cx="8363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ument Analysis Produces Business Object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363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 analysis now results in document business object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us, document analysis is part of the larger system analysis task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s are just another kind of business objec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or may not be represented in XML in imple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9600" y="228240"/>
            <a:ext cx="8363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363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1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e are and are not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1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system and document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1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ing information structures (e.g, DT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1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Integrate DTDs with rest of system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1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alysis-style refi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1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TD models as implementation refinement of abstract business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1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s and Stereo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9600" y="228240"/>
            <a:ext cx="8363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cument Analysis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363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f document analysis stays on business requirements, not syntax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analysis results in abstract information model for business objects that are documents (in the everyday sen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is model, multiple implementations (“DTDs”) may be r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 syntax details defined as part of implementation task, not system analysi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have multiple XML or non-XML implementations of same document business objects with full design trace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rivial but representative example of an abstract information model and an implementation refi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9600" y="228240"/>
            <a:ext cx="8363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cument Business Object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Model.Logical.Report_Data_Model.Report_Component_Types" descr=""/>
          <p:cNvPicPr/>
          <p:nvPr/>
        </p:nvPicPr>
        <p:blipFill>
          <a:blip r:embed="rId2"/>
          <a:stretch/>
        </p:blipFill>
        <p:spPr>
          <a:xfrm>
            <a:off x="990720" y="1143000"/>
            <a:ext cx="7467480" cy="503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9600" y="228240"/>
            <a:ext cx="8363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ML Implementation Model Top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root_structures" descr=""/>
          <p:cNvPicPr/>
          <p:nvPr/>
        </p:nvPicPr>
        <p:blipFill>
          <a:blip r:embed="rId2"/>
          <a:stretch/>
        </p:blipFill>
        <p:spPr>
          <a:xfrm>
            <a:off x="914400" y="1295280"/>
            <a:ext cx="7062840" cy="477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9600" y="228240"/>
            <a:ext cx="8363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&lt;P&gt; Element Typ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_element" descr=""/>
          <p:cNvPicPr/>
          <p:nvPr/>
        </p:nvPicPr>
        <p:blipFill>
          <a:blip r:embed="rId2"/>
          <a:stretch/>
        </p:blipFill>
        <p:spPr>
          <a:xfrm>
            <a:off x="1295280" y="1371600"/>
            <a:ext cx="7396200" cy="44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9600" y="228240"/>
            <a:ext cx="8363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-Use of Oasis Table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aragraph_stuff" descr=""/>
          <p:cNvPicPr/>
          <p:nvPr/>
        </p:nvPicPr>
        <p:blipFill>
          <a:blip r:embed="rId2"/>
          <a:stretch/>
        </p:blipFill>
        <p:spPr>
          <a:xfrm>
            <a:off x="2590920" y="1219320"/>
            <a:ext cx="4119480" cy="38494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590920" y="3657600"/>
            <a:ext cx="2286000" cy="13716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9600" y="228240"/>
            <a:ext cx="8363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ll DTD 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full_dtd_view" descr=""/>
          <p:cNvPicPr/>
          <p:nvPr/>
        </p:nvPicPr>
        <p:blipFill>
          <a:blip r:embed="rId2"/>
          <a:stretch/>
        </p:blipFill>
        <p:spPr>
          <a:xfrm>
            <a:off x="2743200" y="685800"/>
            <a:ext cx="384336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9600" y="228240"/>
            <a:ext cx="8363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nefits for System Design and Imple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363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ers traceability from abstract system modeling to XM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ers rich set of features for managing DTD defin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modularity through UML pack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all of UML’s typing to XML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formal syntactic and semantic constraints through UML object constraint language (or equival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of document analysis is on business objects, not on implementation technology or representation syn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business models can be refined into XML, CORBA IDL, Java objects, RDBMS tables, etc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9600" y="228240"/>
            <a:ext cx="8363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nefits for XML Practition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363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design completely integrated into larger system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use existing tools to develop and maintain DTD definition (e.g., Rose, ObjectDomain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design documentation in form easily understood by imple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graphical representations of DTDs for f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tion can be bound directly to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vates XML to first-class citizen in system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to choose a particular DTD representation syntax (e.g., DTD declarations vs. XML Schema)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are simply generated from UM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ranscend Syntax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9600" y="228240"/>
            <a:ext cx="8363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k to Be Do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363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 DTD syntax output gen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understand how UML packages, Catalysis refinement, OO frameworks, and SGML architectures inte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how to map these models to groves at different levels of abstraction (e.g., groves that reflect the business object model, not the XML syntax mod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 model to include hyperlink 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approach in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9600" y="228240"/>
            <a:ext cx="8363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act Inf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363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. Eliot Kimber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eliot@isoge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Heintz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heintz@isoge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523520"/>
            <a:ext cx="84582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lem Defini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-360" y="396252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 integrate traditional system engineering modeling practice with traditional SGML and XML document analysis and model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9600" y="228240"/>
            <a:ext cx="8363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Are We Build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363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build standards-based information management systems, primarily SGML and XML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ocumentation authoring, production, and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integrated with other core business proce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i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-based data is primary work product of system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9600" y="228240"/>
            <a:ext cx="8363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ical System Requirem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363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support many document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 complex (and often arcane) business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 distinct cultures and practices of auth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 families of related document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need to integrate with industry standards (ATA 2100, Docbook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s or hundreds of thousands of individual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erlinking and use by re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integrate with other information systems and business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outputs from a single source: print, HTML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life cycle documents (20-100+ yea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9600" y="228240"/>
            <a:ext cx="8363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We Are Not Build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363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using XML just for simple object marsha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using XML just for messaging among system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9600" y="228240"/>
            <a:ext cx="8363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 and Document Model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363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 to use UML-based data and object modeling to define ou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document analysis does not use formal data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edence mismatch similar to storing a program in a relational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ways to sol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mapping mechanism from DTDs to object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mapping mechanism from object models to DT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9600" y="228240"/>
            <a:ext cx="8363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pping from DTDs to Object Mode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363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pproach is problemat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TDs are not really data model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weak syntax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TDs provide no way to capture abstraction across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TDs are implementation views of some higher-level abs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 many ways to interpret a given XML structure as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need multiple related DTDs for the same business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ing vs. delivery, different languages or cult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2T16:11:25Z</dcterms:created>
  <dc:creator>tom</dc:creator>
  <dc:description/>
  <dc:language>en-US</dc:language>
  <cp:lastModifiedBy>W. Eliot Kimber</cp:lastModifiedBy>
  <dcterms:modified xsi:type="dcterms:W3CDTF">2000-08-15T21:44:23Z</dcterms:modified>
  <cp:revision>38</cp:revision>
  <dc:subject/>
  <dc:title>K2 -&gt; McKinley</dc:title>
</cp:coreProperties>
</file>