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812958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A46-8E96-43BC-A1C1-B7FFCC29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4080" y="3614760"/>
            <a:ext cx="697212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C9D-EB94-4565-8FFE-7A138A9A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87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080" y="361476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87080" y="361476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0E3-C6CE-48DA-A467-BC721DBF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871360" y="135900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28640" y="135900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4080" y="361476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871360" y="361476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28640" y="3614760"/>
            <a:ext cx="224460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CC0-0494-4B30-829F-1C00ACEA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15E-E332-425D-85E2-EC75E44C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583-39DF-4EA5-96E4-EF2FE9A1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34023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7080" y="1359000"/>
            <a:ext cx="34023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55C-E281-4CDE-ABF7-0775460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DAB-3E80-453D-B5EA-70F5321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66720" y="444240"/>
            <a:ext cx="683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265-4519-41F5-B47F-0BB047D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87080" y="1359000"/>
            <a:ext cx="34023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361476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2B8-D48F-4656-B06B-5232E038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34023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87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87080" y="361476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CE6-F91F-41C2-ADA3-74CCC17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7080" y="1359000"/>
            <a:ext cx="340236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614760"/>
            <a:ext cx="6972120" cy="205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922-6F89-46D6-A5CF-E7339668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4680" y="55627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76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768760" y="55627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76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816160" y="55627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76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7D4-B60A-48BA-BDAE-828C8F71B043}" type="slidenum">
              <a:rPr b="0" lang="en-US" sz="1400" spc="-1" strike="noStrike">
                <a:solidFill>
                  <a:srgbClr val="67676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31640" y="330120"/>
            <a:ext cx="7277400" cy="5461200"/>
          </a:xfrm>
          <a:prstGeom prst="rect">
            <a:avLst/>
          </a:prstGeom>
          <a:noFill/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767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2" marL="787320" indent="-215640">
              <a:spcBef>
                <a:spcPts val="799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7676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767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6767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6767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546280" y="5823000"/>
            <a:ext cx="27957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UML  - Development Process 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444600" y="5875200"/>
            <a:ext cx="865080" cy="108000"/>
            <a:chOff x="444600" y="5875200"/>
            <a:chExt cx="865080" cy="108000"/>
          </a:xfrm>
        </p:grpSpPr>
        <p:sp>
          <p:nvSpPr>
            <p:cNvPr id="9" name=""/>
            <p:cNvSpPr/>
            <p:nvPr/>
          </p:nvSpPr>
          <p:spPr>
            <a:xfrm>
              <a:off x="874800" y="587520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144" y="39"/>
                  </a:moveTo>
                  <a:lnTo>
                    <a:pt x="121" y="39"/>
                  </a:lnTo>
                  <a:lnTo>
                    <a:pt x="97" y="39"/>
                  </a:lnTo>
                  <a:lnTo>
                    <a:pt x="97" y="46"/>
                  </a:lnTo>
                  <a:lnTo>
                    <a:pt x="97" y="53"/>
                  </a:lnTo>
                  <a:lnTo>
                    <a:pt x="73" y="53"/>
                  </a:lnTo>
                  <a:lnTo>
                    <a:pt x="47" y="53"/>
                  </a:lnTo>
                  <a:lnTo>
                    <a:pt x="47" y="34"/>
                  </a:lnTo>
                  <a:lnTo>
                    <a:pt x="47" y="14"/>
                  </a:lnTo>
                  <a:lnTo>
                    <a:pt x="73" y="14"/>
                  </a:lnTo>
                  <a:lnTo>
                    <a:pt x="97" y="14"/>
                  </a:lnTo>
                  <a:lnTo>
                    <a:pt x="97" y="21"/>
                  </a:lnTo>
                  <a:lnTo>
                    <a:pt x="97" y="28"/>
                  </a:lnTo>
                  <a:lnTo>
                    <a:pt x="121" y="28"/>
                  </a:lnTo>
                  <a:lnTo>
                    <a:pt x="144" y="28"/>
                  </a:lnTo>
                  <a:lnTo>
                    <a:pt x="144" y="21"/>
                  </a:lnTo>
                  <a:lnTo>
                    <a:pt x="144" y="19"/>
                  </a:lnTo>
                  <a:lnTo>
                    <a:pt x="144" y="16"/>
                  </a:lnTo>
                  <a:lnTo>
                    <a:pt x="144" y="13"/>
                  </a:lnTo>
                  <a:lnTo>
                    <a:pt x="144" y="11"/>
                  </a:lnTo>
                  <a:lnTo>
                    <a:pt x="144" y="10"/>
                  </a:lnTo>
                  <a:lnTo>
                    <a:pt x="144" y="9"/>
                  </a:lnTo>
                  <a:lnTo>
                    <a:pt x="142" y="7"/>
                  </a:lnTo>
                  <a:lnTo>
                    <a:pt x="141" y="5"/>
                  </a:lnTo>
                  <a:lnTo>
                    <a:pt x="137" y="4"/>
                  </a:lnTo>
                  <a:lnTo>
                    <a:pt x="135" y="3"/>
                  </a:lnTo>
                  <a:lnTo>
                    <a:pt x="134" y="2"/>
                  </a:lnTo>
                  <a:lnTo>
                    <a:pt x="128" y="1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3" y="62"/>
                  </a:lnTo>
                  <a:lnTo>
                    <a:pt x="5" y="63"/>
                  </a:lnTo>
                  <a:lnTo>
                    <a:pt x="7" y="64"/>
                  </a:lnTo>
                  <a:lnTo>
                    <a:pt x="9" y="65"/>
                  </a:lnTo>
                  <a:lnTo>
                    <a:pt x="10" y="65"/>
                  </a:lnTo>
                  <a:lnTo>
                    <a:pt x="16" y="66"/>
                  </a:lnTo>
                  <a:lnTo>
                    <a:pt x="21" y="67"/>
                  </a:lnTo>
                  <a:lnTo>
                    <a:pt x="26" y="67"/>
                  </a:lnTo>
                  <a:lnTo>
                    <a:pt x="29" y="67"/>
                  </a:lnTo>
                  <a:lnTo>
                    <a:pt x="36" y="67"/>
                  </a:lnTo>
                  <a:lnTo>
                    <a:pt x="47" y="67"/>
                  </a:lnTo>
                  <a:lnTo>
                    <a:pt x="50" y="67"/>
                  </a:lnTo>
                  <a:lnTo>
                    <a:pt x="52" y="67"/>
                  </a:lnTo>
                  <a:lnTo>
                    <a:pt x="57" y="67"/>
                  </a:lnTo>
                  <a:lnTo>
                    <a:pt x="64" y="67"/>
                  </a:lnTo>
                  <a:lnTo>
                    <a:pt x="73" y="67"/>
                  </a:lnTo>
                  <a:lnTo>
                    <a:pt x="76" y="67"/>
                  </a:lnTo>
                  <a:lnTo>
                    <a:pt x="85" y="67"/>
                  </a:lnTo>
                  <a:lnTo>
                    <a:pt x="102" y="67"/>
                  </a:lnTo>
                  <a:lnTo>
                    <a:pt x="111" y="67"/>
                  </a:lnTo>
                  <a:lnTo>
                    <a:pt x="115" y="67"/>
                  </a:lnTo>
                  <a:lnTo>
                    <a:pt x="121" y="67"/>
                  </a:lnTo>
                  <a:lnTo>
                    <a:pt x="127" y="66"/>
                  </a:lnTo>
                  <a:lnTo>
                    <a:pt x="134" y="65"/>
                  </a:lnTo>
                  <a:lnTo>
                    <a:pt x="135" y="65"/>
                  </a:lnTo>
                  <a:lnTo>
                    <a:pt x="137" y="64"/>
                  </a:lnTo>
                  <a:lnTo>
                    <a:pt x="141" y="63"/>
                  </a:lnTo>
                  <a:lnTo>
                    <a:pt x="142" y="61"/>
                  </a:lnTo>
                  <a:lnTo>
                    <a:pt x="144" y="59"/>
                  </a:lnTo>
                  <a:lnTo>
                    <a:pt x="144" y="58"/>
                  </a:lnTo>
                  <a:lnTo>
                    <a:pt x="144" y="56"/>
                  </a:lnTo>
                  <a:lnTo>
                    <a:pt x="144" y="55"/>
                  </a:lnTo>
                  <a:lnTo>
                    <a:pt x="144" y="53"/>
                  </a:lnTo>
                  <a:lnTo>
                    <a:pt x="144" y="52"/>
                  </a:lnTo>
                  <a:lnTo>
                    <a:pt x="144" y="51"/>
                  </a:lnTo>
                  <a:lnTo>
                    <a:pt x="144" y="51"/>
                  </a:lnTo>
                  <a:lnTo>
                    <a:pt x="144" y="50"/>
                  </a:lnTo>
                  <a:lnTo>
                    <a:pt x="144" y="48"/>
                  </a:lnTo>
                  <a:lnTo>
                    <a:pt x="144" y="46"/>
                  </a:lnTo>
                  <a:lnTo>
                    <a:pt x="144" y="45"/>
                  </a:lnTo>
                  <a:lnTo>
                    <a:pt x="144" y="39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76767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38320" y="5875200"/>
              <a:ext cx="171360" cy="10800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0" y="67"/>
                  </a:moveTo>
                  <a:lnTo>
                    <a:pt x="3" y="67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21" y="67"/>
                  </a:lnTo>
                  <a:lnTo>
                    <a:pt x="26" y="67"/>
                  </a:lnTo>
                  <a:lnTo>
                    <a:pt x="28" y="67"/>
                  </a:lnTo>
                  <a:lnTo>
                    <a:pt x="33" y="67"/>
                  </a:lnTo>
                  <a:lnTo>
                    <a:pt x="43" y="67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2" y="67"/>
                  </a:lnTo>
                  <a:lnTo>
                    <a:pt x="66" y="67"/>
                  </a:lnTo>
                  <a:lnTo>
                    <a:pt x="71" y="67"/>
                  </a:lnTo>
                  <a:lnTo>
                    <a:pt x="74" y="67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1" y="67"/>
                  </a:lnTo>
                  <a:lnTo>
                    <a:pt x="83" y="67"/>
                  </a:lnTo>
                  <a:lnTo>
                    <a:pt x="85" y="67"/>
                  </a:lnTo>
                  <a:lnTo>
                    <a:pt x="97" y="60"/>
                  </a:lnTo>
                  <a:lnTo>
                    <a:pt x="107" y="53"/>
                  </a:lnTo>
                  <a:lnTo>
                    <a:pt x="76" y="53"/>
                  </a:lnTo>
                  <a:lnTo>
                    <a:pt x="45" y="53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5" y="45"/>
                  </a:lnTo>
                  <a:lnTo>
                    <a:pt x="45" y="44"/>
                  </a:lnTo>
                  <a:lnTo>
                    <a:pt x="45" y="43"/>
                  </a:lnTo>
                  <a:lnTo>
                    <a:pt x="45" y="40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30"/>
                  </a:lnTo>
                  <a:lnTo>
                    <a:pt x="45" y="27"/>
                  </a:lnTo>
                  <a:lnTo>
                    <a:pt x="45" y="19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5" y="6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76767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44600" y="5875200"/>
              <a:ext cx="398520" cy="108000"/>
            </a:xfrm>
            <a:custGeom>
              <a:avLst/>
              <a:gdLst/>
              <a:ahLst/>
              <a:rect l="l" t="t" r="r" b="b"/>
              <a:pathLst>
                <a:path w="251" h="68">
                  <a:moveTo>
                    <a:pt x="9" y="65"/>
                  </a:moveTo>
                  <a:lnTo>
                    <a:pt x="10" y="65"/>
                  </a:lnTo>
                  <a:lnTo>
                    <a:pt x="16" y="66"/>
                  </a:lnTo>
                  <a:lnTo>
                    <a:pt x="21" y="67"/>
                  </a:lnTo>
                  <a:lnTo>
                    <a:pt x="26" y="67"/>
                  </a:lnTo>
                  <a:lnTo>
                    <a:pt x="30" y="67"/>
                  </a:lnTo>
                  <a:lnTo>
                    <a:pt x="33" y="67"/>
                  </a:lnTo>
                  <a:lnTo>
                    <a:pt x="40" y="67"/>
                  </a:lnTo>
                  <a:lnTo>
                    <a:pt x="45" y="67"/>
                  </a:lnTo>
                  <a:lnTo>
                    <a:pt x="49" y="67"/>
                  </a:lnTo>
                  <a:lnTo>
                    <a:pt x="50" y="67"/>
                  </a:lnTo>
                  <a:lnTo>
                    <a:pt x="52" y="67"/>
                  </a:lnTo>
                  <a:lnTo>
                    <a:pt x="56" y="67"/>
                  </a:lnTo>
                  <a:lnTo>
                    <a:pt x="61" y="67"/>
                  </a:lnTo>
                  <a:lnTo>
                    <a:pt x="69" y="67"/>
                  </a:lnTo>
                  <a:lnTo>
                    <a:pt x="73" y="67"/>
                  </a:lnTo>
                  <a:lnTo>
                    <a:pt x="90" y="67"/>
                  </a:lnTo>
                  <a:lnTo>
                    <a:pt x="95" y="65"/>
                  </a:lnTo>
                  <a:lnTo>
                    <a:pt x="101" y="63"/>
                  </a:lnTo>
                  <a:lnTo>
                    <a:pt x="106" y="65"/>
                  </a:lnTo>
                  <a:lnTo>
                    <a:pt x="111" y="67"/>
                  </a:lnTo>
                  <a:lnTo>
                    <a:pt x="130" y="67"/>
                  </a:lnTo>
                  <a:lnTo>
                    <a:pt x="148" y="67"/>
                  </a:lnTo>
                  <a:lnTo>
                    <a:pt x="148" y="53"/>
                  </a:lnTo>
                  <a:lnTo>
                    <a:pt x="148" y="39"/>
                  </a:lnTo>
                  <a:lnTo>
                    <a:pt x="175" y="39"/>
                  </a:lnTo>
                  <a:lnTo>
                    <a:pt x="203" y="39"/>
                  </a:lnTo>
                  <a:lnTo>
                    <a:pt x="203" y="53"/>
                  </a:lnTo>
                  <a:lnTo>
                    <a:pt x="203" y="67"/>
                  </a:lnTo>
                  <a:lnTo>
                    <a:pt x="227" y="67"/>
                  </a:lnTo>
                  <a:lnTo>
                    <a:pt x="250" y="67"/>
                  </a:lnTo>
                  <a:lnTo>
                    <a:pt x="250" y="34"/>
                  </a:lnTo>
                  <a:lnTo>
                    <a:pt x="250" y="0"/>
                  </a:lnTo>
                  <a:lnTo>
                    <a:pt x="227" y="0"/>
                  </a:lnTo>
                  <a:lnTo>
                    <a:pt x="203" y="0"/>
                  </a:lnTo>
                  <a:lnTo>
                    <a:pt x="203" y="14"/>
                  </a:lnTo>
                  <a:lnTo>
                    <a:pt x="203" y="28"/>
                  </a:lnTo>
                  <a:lnTo>
                    <a:pt x="186" y="28"/>
                  </a:lnTo>
                  <a:lnTo>
                    <a:pt x="167" y="28"/>
                  </a:lnTo>
                  <a:lnTo>
                    <a:pt x="163" y="30"/>
                  </a:lnTo>
                  <a:lnTo>
                    <a:pt x="158" y="32"/>
                  </a:lnTo>
                  <a:lnTo>
                    <a:pt x="153" y="32"/>
                  </a:lnTo>
                  <a:lnTo>
                    <a:pt x="148" y="32"/>
                  </a:lnTo>
                  <a:lnTo>
                    <a:pt x="148" y="16"/>
                  </a:lnTo>
                  <a:lnTo>
                    <a:pt x="148" y="0"/>
                  </a:lnTo>
                  <a:lnTo>
                    <a:pt x="125" y="0"/>
                  </a:lnTo>
                  <a:lnTo>
                    <a:pt x="101" y="0"/>
                  </a:lnTo>
                  <a:lnTo>
                    <a:pt x="101" y="27"/>
                  </a:lnTo>
                  <a:lnTo>
                    <a:pt x="101" y="53"/>
                  </a:lnTo>
                  <a:lnTo>
                    <a:pt x="73" y="53"/>
                  </a:lnTo>
                  <a:lnTo>
                    <a:pt x="45" y="53"/>
                  </a:lnTo>
                  <a:lnTo>
                    <a:pt x="47" y="27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7" y="64"/>
                  </a:lnTo>
                  <a:lnTo>
                    <a:pt x="9" y="65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76767"/>
                </a:solidFill>
                <a:latin typeface="Times New Roman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391520" y="5816520"/>
            <a:ext cx="4334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682-56A1-4618-967C-E78762E8DE02}" type="slidenum">
              <a:rPr b="1" lang="en-US" sz="1200" spc="-1" strike="noStrike">
                <a:solidFill>
                  <a:srgbClr val="cf0e3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409760" y="5861160"/>
            <a:ext cx="137880" cy="13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Software Development Process</a:t>
            </a:r>
            <a:br>
              <a:rPr sz="3200"/>
            </a:b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Using UML (2)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Elaboration Phase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apture and refine Requirements through Use Ca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xplore actors usage of the system by decomposing Use Cases using Sequence Diagra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Analysis Model using Class Diagram by detailing about 10% of the Use Cases Model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stablish baseline architecture using Class Diagram (with Subsystems, Design Classes), Deployment Diagram, Implementation Diagram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Mitigate the significant risk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lan the Construction Phas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Takes about fifth of the entire project tim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17160"/>
            <a:ext cx="6832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Construction Phase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09320" y="882360"/>
            <a:ext cx="759276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Build the system in a series of iteration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ach iteration is a mini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a software product ready for inital operation (beta release)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apture the remaining Requiremen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rioritize Use Cases to be implemented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tail the remaining Use Cases, by completing their realizatio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Refine the Architectural Model by adding new subsystems and detailing existing on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SIGN DESIGN DESIG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mplementation of the architecture, the subsystems, the clas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erform Unit Testing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ntegrat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erform System Testing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Transition Phase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184400"/>
            <a:ext cx="723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Focus on establishing the product  in the operational environmen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istribute Beta Releas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Gather user feedback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Refine product per user feedback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Re test th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repare system rollou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ompleting all project artifac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ll updated model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r, Operator, System Administrator Manuals 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ostmortem of the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Planning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9520" y="1278000"/>
            <a:ext cx="72324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scope of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scope of next iteratio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dentify Stakeholder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apture Stakeholders expectatio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Build tea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ssess Risk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lan work for the iteratio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lan work for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Criteria for iteration/project closure/succes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ML concepts used: initial Business Model, using class diagra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5720" y="32652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9320" y="880560"/>
            <a:ext cx="733716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List candidate requirements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textual feature list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nderstand system contex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omain model describing important concepts of the context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business modeling specifying what processes have to be supported by the system using Activity Diagram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apture functional and nonfunctional requiremen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 Case Model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upplementary requiremen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hysical, interface, design constraints, implementation constraint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1760" y="361800"/>
            <a:ext cx="683244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400" y="825120"/>
            <a:ext cx="7476840" cy="46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nalyze in depth the requiremen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2520">
              <a:lnSpc>
                <a:spcPct val="90000"/>
              </a:lnSpc>
              <a:spcBef>
                <a:spcPts val="1001"/>
              </a:spcBef>
              <a:buClr>
                <a:srgbClr val="676767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6767"/>
                </a:solidFill>
                <a:latin typeface="Geneva"/>
              </a:rPr>
              <a:t> </a:t>
            </a:r>
            <a:r>
              <a:rPr b="0" lang="en-US" sz="1600" spc="-1" strike="noStrike">
                <a:solidFill>
                  <a:srgbClr val="676767"/>
                </a:solidFill>
                <a:latin typeface="Geneva"/>
              </a:rPr>
              <a:t>Develop Sequence Diagram from Use Cases</a:t>
            </a:r>
            <a:endParaRPr b="0" lang="en-US" sz="1600" spc="-1" strike="noStrike">
              <a:solidFill>
                <a:srgbClr val="232323"/>
              </a:solidFill>
              <a:latin typeface="Genev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tructure the Use Ca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tart reasoning about the internal of the system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Analysis Model: Class Diagram and State Diagra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Focus on what is the problem not how to solve i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nderstand the main concepts of the probl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Three main types of classes stereotypes may be used: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Boundary Classes: used to model interaction between system and its actors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Entity Classes: used to model information and associated behavior deirectly derived from real-world concept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Control Class: used to model business logic, computations transactions or coordination.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5880" y="395280"/>
            <a:ext cx="68328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92240"/>
            <a:ext cx="697248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Refine the Class Diagra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tructure system with Subsystems, Interfaces, Clas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subsystems dependenci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apture major interfaces between subsystem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ssign responsibilities to new design clas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scribe realization of Use Ca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ssign visibility to class attributes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Methods signatur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state diagram for relevant design clas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 Interaction Diagram to distribute behavior among clas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 Design Patterns for parts of th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87600" y="444240"/>
            <a:ext cx="5911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Architectural Design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9800" y="1065240"/>
            <a:ext cx="71532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dentify Design Mechanism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Refine Analysis based on constraints imposed by implementation environment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Characterize needs for specific mechanisms (inter-process communication, real-time computation, access to legacy system, persistence, …)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Assess existing implementation mechanism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dentify Design Classes and Subsystem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A Subsystem is a special kind of Package which has behavioral semantics (realizes one or more interfaces)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Refine analysis classe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Group classes into Package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Identify Subsystems when analysis classes are complex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2" marL="779400" indent="-213480">
              <a:lnSpc>
                <a:spcPct val="9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Look for strong interactions between classes in Collaboration Diagram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2" marL="779400" indent="-213480">
              <a:lnSpc>
                <a:spcPct val="9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Try to organize the UI classes into a subsystem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2" marL="779400" indent="-213480">
              <a:lnSpc>
                <a:spcPct val="9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Separate functionality used by different actors in different subsystem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2" marL="779400" indent="-213480">
              <a:lnSpc>
                <a:spcPct val="9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Separate subsystems based on the distribution need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Identify Interfaces of the subsystems</a:t>
            </a: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  <a:p>
            <a:pPr lvl="1" marL="452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232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Implementation/Integration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istribute the system by mapping executable components onto nodes in the deployment model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mplement Design Classes and subsystems through packaging mechanism: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ackage in Java, Project in VB, files directory in C++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cquire external components realizing needed interfac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nit test the componen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ntegrate via build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set of test cases that specify what to test in th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many for each Use Case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ach test case will verify one scenario of the use case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based on Sequence Diagram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test procedures  specifying how to perform test ca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 test component that automates test procedur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Software Development Process</a:t>
            </a:r>
            <a:br>
              <a:rPr sz="3200"/>
            </a:b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Bird’s Eye View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800" y="1522440"/>
            <a:ext cx="7359840" cy="38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ML is a Notation/Languag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Need a Software Development Process using UML concept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Many Development methods available or to come (Fusion, CRC, Catalysis, Rational Unified Process, …)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Method are more or less formal and heavy depending of type of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Need to adapt Process Framework to project specific need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nified Process is a framework based mostly on Objectory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Geneva"/>
              </a:rPr>
              <a:t>Use-Case Driven, Architecture-Centric, Iterative, Incremental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6720" y="404280"/>
            <a:ext cx="3386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Deployment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-230040"/>
            <a:ext cx="812808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080" y="1077480"/>
            <a:ext cx="6972120" cy="43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roducing the Softwar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1580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Output of implementation is tested executables. 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1" marL="41580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Must be associated with other artifacts to constitute a complete product: 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Installation scripts 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User documentation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	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Configuration data 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Additional programs for migration: data conversion. 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1" marL="415800">
              <a:lnSpc>
                <a:spcPct val="90000"/>
              </a:lnSpc>
              <a:spcBef>
                <a:spcPts val="1125"/>
              </a:spcBef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In some cases: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different executables needed for different user configurations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2" marL="716400" indent="-196200">
              <a:lnSpc>
                <a:spcPct val="90000"/>
              </a:lnSpc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different sets of artifacts needed for different classes of users:</a:t>
            </a:r>
            <a:endParaRPr b="0" lang="en-US" sz="1800" spc="-1" strike="noStrike">
              <a:solidFill>
                <a:srgbClr val="232323"/>
              </a:solidFill>
              <a:latin typeface="Geneva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users versus existing users, 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ts by country or language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  <a:p>
            <a:pPr lvl="1" marL="415800">
              <a:lnSpc>
                <a:spcPct val="90000"/>
              </a:lnSpc>
              <a:spcBef>
                <a:spcPts val="1250"/>
              </a:spcBef>
              <a:buClr>
                <a:srgbClr val="232323"/>
              </a:buClr>
              <a:buSzPct val="90000"/>
              <a:buFont typeface="Gene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For distributed software, different sets may have to be produced for different computing nodes in the network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4920" y="464760"/>
            <a:ext cx="350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Deployment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Packaging the Software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Distributing the Software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Installing the Software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Migration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Providing Help and Assistance to Users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23"/>
                </a:solidFill>
                <a:latin typeface="Geneva"/>
              </a:rPr>
              <a:t>Acceptance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Summary of Overall Process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2000" y="1187280"/>
            <a:ext cx="735012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Model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y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Capture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ase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ase Prioritization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ase Detai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lass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Design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econd vers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Design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ystems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using next level of detail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Summary of Overall Process (cont.)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7800" y="1186920"/>
            <a:ext cx="7058160" cy="43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ment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ign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on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e all information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ign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 Diagram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all models through iterations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the models by translating into code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 software within operational environment</a:t>
            </a:r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Use-Case Driven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108080"/>
            <a:ext cx="747684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 Case Model describe complete functionality of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Replaces the traditional functional specification of th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Used not only for requirements capture, but all along the development process: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158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ers create development and implementation models based on UC  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158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velopers review each successive model for conformance to UC 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158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Testers test implementation to ensure it correctly implements UC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ach iteration is driven by selected use cases through all activities from requirement to design and testing resulting in an incremen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Architecture Centric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35900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mbodies the most significant aspects of the system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View of the whole design with the important characteristics made more visible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s usually derived from the </a:t>
            </a:r>
            <a:r>
              <a:rPr b="0" lang="en-US" sz="2000" spc="-1" strike="noStrike" u="sng">
                <a:solidFill>
                  <a:srgbClr val="232323"/>
                </a:solidFill>
                <a:uFillTx/>
                <a:latin typeface="Geneva"/>
              </a:rPr>
              <a:t>key Use Cases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of the system, the ones that constitutes the core system function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volves in parallel with the Use Cases: as use cases mature, more of the architecture is discovered, which in turn leads to the maturation of more use cases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xpressed with Subsystems, Classes, Components.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Iterative and Incremental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7080" y="1135080"/>
            <a:ext cx="697212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Way to divide the work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terations are steps in the process, and increments are growth of the produ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Each iteration is aimed at: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mplementing a set of use case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ddressing the most important risk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n each iteration, developers: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dentify and specify the relevant use case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create a design using the defined architecture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5720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implement the design in components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Lifecycle Phases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200" y="1419120"/>
            <a:ext cx="141588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2240" y="1630440"/>
            <a:ext cx="11102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76440" y="1413000"/>
            <a:ext cx="141624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4280" y="1623960"/>
            <a:ext cx="1337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1240" y="1400040"/>
            <a:ext cx="141624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5880" y="1611360"/>
            <a:ext cx="1465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76800" y="1414440"/>
            <a:ext cx="141624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63200" y="1625760"/>
            <a:ext cx="1186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4160" y="1770120"/>
            <a:ext cx="424080" cy="0"/>
          </a:xfrm>
          <a:prstGeom prst="line">
            <a:avLst/>
          </a:prstGeom>
          <a:ln w="12600">
            <a:solidFill>
              <a:srgbClr val="67676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06720" y="1782720"/>
            <a:ext cx="343080" cy="0"/>
          </a:xfrm>
          <a:prstGeom prst="line">
            <a:avLst/>
          </a:prstGeom>
          <a:ln w="12600">
            <a:solidFill>
              <a:srgbClr val="67676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1760" y="1790640"/>
            <a:ext cx="351000" cy="6480"/>
          </a:xfrm>
          <a:prstGeom prst="line">
            <a:avLst/>
          </a:prstGeom>
          <a:ln w="12600">
            <a:solidFill>
              <a:srgbClr val="67676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689200"/>
            <a:ext cx="683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Process Activities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8600" y="3443400"/>
            <a:ext cx="115416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520" y="3689280"/>
            <a:ext cx="1070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24040" y="3435480"/>
            <a:ext cx="1031760" cy="82548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7560" y="3668760"/>
            <a:ext cx="120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3446640"/>
            <a:ext cx="833400" cy="83340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67680" y="3691080"/>
            <a:ext cx="893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0160" y="3460680"/>
            <a:ext cx="1601640" cy="82548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45000" y="3697200"/>
            <a:ext cx="1974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73720" y="3462480"/>
            <a:ext cx="1170000" cy="82548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8800" y="3686040"/>
            <a:ext cx="1361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05640" y="3460680"/>
            <a:ext cx="984240" cy="82872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1480" y="3711600"/>
            <a:ext cx="996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0440" y="4896000"/>
            <a:ext cx="6916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Activities take place in varying degrees in each phase and iter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1960" y="393840"/>
            <a:ext cx="113652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2880" y="395280"/>
            <a:ext cx="112572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51200" y="407880"/>
            <a:ext cx="227484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0440" y="406440"/>
            <a:ext cx="237960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560" y="422280"/>
            <a:ext cx="11102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1720" y="428760"/>
            <a:ext cx="1337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1360" y="449280"/>
            <a:ext cx="1465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2840" y="452520"/>
            <a:ext cx="1186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320" y="898560"/>
            <a:ext cx="6786720" cy="338040"/>
          </a:xfrm>
          <a:custGeom>
            <a:avLst/>
            <a:gdLst/>
            <a:ahLst/>
            <a:rect l="l" t="t" r="r" b="b"/>
            <a:pathLst>
              <a:path w="4275" h="213">
                <a:moveTo>
                  <a:pt x="0" y="161"/>
                </a:moveTo>
                <a:lnTo>
                  <a:pt x="15" y="132"/>
                </a:lnTo>
                <a:lnTo>
                  <a:pt x="29" y="110"/>
                </a:lnTo>
                <a:lnTo>
                  <a:pt x="44" y="88"/>
                </a:lnTo>
                <a:lnTo>
                  <a:pt x="66" y="81"/>
                </a:lnTo>
                <a:lnTo>
                  <a:pt x="88" y="66"/>
                </a:lnTo>
                <a:lnTo>
                  <a:pt x="110" y="51"/>
                </a:lnTo>
                <a:lnTo>
                  <a:pt x="132" y="44"/>
                </a:lnTo>
                <a:lnTo>
                  <a:pt x="154" y="37"/>
                </a:lnTo>
                <a:lnTo>
                  <a:pt x="176" y="29"/>
                </a:lnTo>
                <a:lnTo>
                  <a:pt x="198" y="22"/>
                </a:lnTo>
                <a:lnTo>
                  <a:pt x="220" y="15"/>
                </a:lnTo>
                <a:lnTo>
                  <a:pt x="242" y="15"/>
                </a:lnTo>
                <a:lnTo>
                  <a:pt x="271" y="7"/>
                </a:lnTo>
                <a:lnTo>
                  <a:pt x="293" y="7"/>
                </a:lnTo>
                <a:lnTo>
                  <a:pt x="322" y="0"/>
                </a:lnTo>
                <a:lnTo>
                  <a:pt x="344" y="0"/>
                </a:lnTo>
                <a:lnTo>
                  <a:pt x="366" y="0"/>
                </a:lnTo>
                <a:lnTo>
                  <a:pt x="388" y="0"/>
                </a:lnTo>
                <a:lnTo>
                  <a:pt x="410" y="0"/>
                </a:lnTo>
                <a:lnTo>
                  <a:pt x="432" y="0"/>
                </a:lnTo>
                <a:lnTo>
                  <a:pt x="461" y="0"/>
                </a:lnTo>
                <a:lnTo>
                  <a:pt x="483" y="7"/>
                </a:lnTo>
                <a:lnTo>
                  <a:pt x="505" y="7"/>
                </a:lnTo>
                <a:lnTo>
                  <a:pt x="527" y="7"/>
                </a:lnTo>
                <a:lnTo>
                  <a:pt x="549" y="15"/>
                </a:lnTo>
                <a:lnTo>
                  <a:pt x="571" y="22"/>
                </a:lnTo>
                <a:lnTo>
                  <a:pt x="593" y="22"/>
                </a:lnTo>
                <a:lnTo>
                  <a:pt x="615" y="29"/>
                </a:lnTo>
                <a:lnTo>
                  <a:pt x="637" y="37"/>
                </a:lnTo>
                <a:lnTo>
                  <a:pt x="659" y="37"/>
                </a:lnTo>
                <a:lnTo>
                  <a:pt x="681" y="44"/>
                </a:lnTo>
                <a:lnTo>
                  <a:pt x="703" y="51"/>
                </a:lnTo>
                <a:lnTo>
                  <a:pt x="725" y="59"/>
                </a:lnTo>
                <a:lnTo>
                  <a:pt x="747" y="66"/>
                </a:lnTo>
                <a:lnTo>
                  <a:pt x="769" y="81"/>
                </a:lnTo>
                <a:lnTo>
                  <a:pt x="790" y="88"/>
                </a:lnTo>
                <a:lnTo>
                  <a:pt x="812" y="95"/>
                </a:lnTo>
                <a:lnTo>
                  <a:pt x="834" y="110"/>
                </a:lnTo>
                <a:lnTo>
                  <a:pt x="856" y="117"/>
                </a:lnTo>
                <a:lnTo>
                  <a:pt x="878" y="124"/>
                </a:lnTo>
                <a:lnTo>
                  <a:pt x="900" y="139"/>
                </a:lnTo>
                <a:lnTo>
                  <a:pt x="922" y="146"/>
                </a:lnTo>
                <a:lnTo>
                  <a:pt x="944" y="161"/>
                </a:lnTo>
                <a:lnTo>
                  <a:pt x="959" y="183"/>
                </a:lnTo>
                <a:lnTo>
                  <a:pt x="981" y="198"/>
                </a:lnTo>
                <a:lnTo>
                  <a:pt x="1003" y="205"/>
                </a:lnTo>
                <a:lnTo>
                  <a:pt x="1025" y="212"/>
                </a:lnTo>
                <a:lnTo>
                  <a:pt x="1047" y="212"/>
                </a:lnTo>
                <a:lnTo>
                  <a:pt x="1069" y="212"/>
                </a:lnTo>
                <a:lnTo>
                  <a:pt x="1091" y="198"/>
                </a:lnTo>
                <a:lnTo>
                  <a:pt x="1112" y="190"/>
                </a:lnTo>
                <a:lnTo>
                  <a:pt x="1134" y="183"/>
                </a:lnTo>
                <a:lnTo>
                  <a:pt x="1156" y="168"/>
                </a:lnTo>
                <a:lnTo>
                  <a:pt x="1178" y="161"/>
                </a:lnTo>
                <a:lnTo>
                  <a:pt x="1200" y="146"/>
                </a:lnTo>
                <a:lnTo>
                  <a:pt x="1230" y="132"/>
                </a:lnTo>
                <a:lnTo>
                  <a:pt x="1252" y="124"/>
                </a:lnTo>
                <a:lnTo>
                  <a:pt x="1273" y="110"/>
                </a:lnTo>
                <a:lnTo>
                  <a:pt x="1295" y="110"/>
                </a:lnTo>
                <a:lnTo>
                  <a:pt x="1317" y="102"/>
                </a:lnTo>
                <a:lnTo>
                  <a:pt x="1339" y="95"/>
                </a:lnTo>
                <a:lnTo>
                  <a:pt x="1361" y="95"/>
                </a:lnTo>
                <a:lnTo>
                  <a:pt x="1398" y="81"/>
                </a:lnTo>
                <a:lnTo>
                  <a:pt x="1427" y="81"/>
                </a:lnTo>
                <a:lnTo>
                  <a:pt x="1449" y="81"/>
                </a:lnTo>
                <a:lnTo>
                  <a:pt x="1471" y="81"/>
                </a:lnTo>
                <a:lnTo>
                  <a:pt x="1493" y="73"/>
                </a:lnTo>
                <a:lnTo>
                  <a:pt x="1537" y="73"/>
                </a:lnTo>
                <a:lnTo>
                  <a:pt x="1559" y="73"/>
                </a:lnTo>
                <a:lnTo>
                  <a:pt x="1581" y="66"/>
                </a:lnTo>
                <a:lnTo>
                  <a:pt x="1610" y="66"/>
                </a:lnTo>
                <a:lnTo>
                  <a:pt x="1639" y="66"/>
                </a:lnTo>
                <a:lnTo>
                  <a:pt x="1669" y="66"/>
                </a:lnTo>
                <a:lnTo>
                  <a:pt x="1691" y="66"/>
                </a:lnTo>
                <a:lnTo>
                  <a:pt x="1713" y="66"/>
                </a:lnTo>
                <a:lnTo>
                  <a:pt x="1734" y="66"/>
                </a:lnTo>
                <a:lnTo>
                  <a:pt x="1756" y="66"/>
                </a:lnTo>
                <a:lnTo>
                  <a:pt x="1800" y="66"/>
                </a:lnTo>
                <a:lnTo>
                  <a:pt x="1822" y="66"/>
                </a:lnTo>
                <a:lnTo>
                  <a:pt x="1837" y="88"/>
                </a:lnTo>
                <a:lnTo>
                  <a:pt x="1852" y="110"/>
                </a:lnTo>
                <a:lnTo>
                  <a:pt x="1859" y="132"/>
                </a:lnTo>
                <a:lnTo>
                  <a:pt x="1866" y="154"/>
                </a:lnTo>
                <a:lnTo>
                  <a:pt x="1881" y="176"/>
                </a:lnTo>
                <a:lnTo>
                  <a:pt x="1888" y="198"/>
                </a:lnTo>
                <a:lnTo>
                  <a:pt x="1910" y="198"/>
                </a:lnTo>
                <a:lnTo>
                  <a:pt x="1932" y="198"/>
                </a:lnTo>
                <a:lnTo>
                  <a:pt x="1954" y="198"/>
                </a:lnTo>
                <a:lnTo>
                  <a:pt x="1976" y="190"/>
                </a:lnTo>
                <a:lnTo>
                  <a:pt x="1998" y="176"/>
                </a:lnTo>
                <a:lnTo>
                  <a:pt x="2020" y="161"/>
                </a:lnTo>
                <a:lnTo>
                  <a:pt x="2042" y="139"/>
                </a:lnTo>
                <a:lnTo>
                  <a:pt x="2078" y="124"/>
                </a:lnTo>
                <a:lnTo>
                  <a:pt x="2100" y="117"/>
                </a:lnTo>
                <a:lnTo>
                  <a:pt x="2122" y="110"/>
                </a:lnTo>
                <a:lnTo>
                  <a:pt x="2152" y="102"/>
                </a:lnTo>
                <a:lnTo>
                  <a:pt x="2254" y="102"/>
                </a:lnTo>
                <a:lnTo>
                  <a:pt x="2298" y="102"/>
                </a:lnTo>
                <a:lnTo>
                  <a:pt x="2327" y="102"/>
                </a:lnTo>
                <a:lnTo>
                  <a:pt x="2349" y="102"/>
                </a:lnTo>
                <a:lnTo>
                  <a:pt x="2371" y="102"/>
                </a:lnTo>
                <a:lnTo>
                  <a:pt x="2393" y="102"/>
                </a:lnTo>
                <a:lnTo>
                  <a:pt x="2415" y="102"/>
                </a:lnTo>
                <a:lnTo>
                  <a:pt x="2437" y="95"/>
                </a:lnTo>
                <a:lnTo>
                  <a:pt x="2459" y="81"/>
                </a:lnTo>
                <a:lnTo>
                  <a:pt x="2481" y="81"/>
                </a:lnTo>
                <a:lnTo>
                  <a:pt x="2503" y="81"/>
                </a:lnTo>
                <a:lnTo>
                  <a:pt x="2525" y="81"/>
                </a:lnTo>
                <a:lnTo>
                  <a:pt x="2554" y="95"/>
                </a:lnTo>
                <a:lnTo>
                  <a:pt x="2576" y="102"/>
                </a:lnTo>
                <a:lnTo>
                  <a:pt x="2598" y="117"/>
                </a:lnTo>
                <a:lnTo>
                  <a:pt x="2620" y="132"/>
                </a:lnTo>
                <a:lnTo>
                  <a:pt x="2642" y="139"/>
                </a:lnTo>
                <a:lnTo>
                  <a:pt x="2671" y="168"/>
                </a:lnTo>
                <a:lnTo>
                  <a:pt x="2693" y="176"/>
                </a:lnTo>
                <a:lnTo>
                  <a:pt x="2715" y="183"/>
                </a:lnTo>
                <a:lnTo>
                  <a:pt x="2737" y="190"/>
                </a:lnTo>
                <a:lnTo>
                  <a:pt x="2759" y="190"/>
                </a:lnTo>
                <a:lnTo>
                  <a:pt x="2781" y="190"/>
                </a:lnTo>
                <a:lnTo>
                  <a:pt x="2803" y="190"/>
                </a:lnTo>
                <a:lnTo>
                  <a:pt x="2825" y="190"/>
                </a:lnTo>
                <a:lnTo>
                  <a:pt x="2847" y="190"/>
                </a:lnTo>
                <a:lnTo>
                  <a:pt x="2832" y="198"/>
                </a:lnTo>
                <a:lnTo>
                  <a:pt x="2854" y="190"/>
                </a:lnTo>
                <a:lnTo>
                  <a:pt x="2876" y="176"/>
                </a:lnTo>
                <a:lnTo>
                  <a:pt x="2898" y="161"/>
                </a:lnTo>
                <a:lnTo>
                  <a:pt x="2920" y="154"/>
                </a:lnTo>
                <a:lnTo>
                  <a:pt x="2935" y="132"/>
                </a:lnTo>
                <a:lnTo>
                  <a:pt x="2957" y="124"/>
                </a:lnTo>
                <a:lnTo>
                  <a:pt x="2978" y="110"/>
                </a:lnTo>
                <a:lnTo>
                  <a:pt x="2993" y="88"/>
                </a:lnTo>
                <a:lnTo>
                  <a:pt x="3022" y="73"/>
                </a:lnTo>
                <a:lnTo>
                  <a:pt x="3044" y="59"/>
                </a:lnTo>
                <a:lnTo>
                  <a:pt x="3066" y="44"/>
                </a:lnTo>
                <a:lnTo>
                  <a:pt x="3088" y="29"/>
                </a:lnTo>
                <a:lnTo>
                  <a:pt x="3110" y="22"/>
                </a:lnTo>
                <a:lnTo>
                  <a:pt x="3139" y="22"/>
                </a:lnTo>
                <a:lnTo>
                  <a:pt x="3161" y="15"/>
                </a:lnTo>
                <a:lnTo>
                  <a:pt x="3183" y="15"/>
                </a:lnTo>
                <a:lnTo>
                  <a:pt x="3205" y="7"/>
                </a:lnTo>
                <a:lnTo>
                  <a:pt x="3227" y="7"/>
                </a:lnTo>
                <a:lnTo>
                  <a:pt x="3249" y="0"/>
                </a:lnTo>
                <a:lnTo>
                  <a:pt x="3271" y="0"/>
                </a:lnTo>
                <a:lnTo>
                  <a:pt x="3300" y="0"/>
                </a:lnTo>
                <a:lnTo>
                  <a:pt x="3322" y="7"/>
                </a:lnTo>
                <a:lnTo>
                  <a:pt x="3344" y="7"/>
                </a:lnTo>
                <a:lnTo>
                  <a:pt x="3366" y="15"/>
                </a:lnTo>
                <a:lnTo>
                  <a:pt x="3396" y="22"/>
                </a:lnTo>
                <a:lnTo>
                  <a:pt x="3418" y="29"/>
                </a:lnTo>
                <a:lnTo>
                  <a:pt x="3440" y="29"/>
                </a:lnTo>
                <a:lnTo>
                  <a:pt x="3461" y="37"/>
                </a:lnTo>
                <a:lnTo>
                  <a:pt x="3483" y="44"/>
                </a:lnTo>
                <a:lnTo>
                  <a:pt x="3505" y="44"/>
                </a:lnTo>
                <a:lnTo>
                  <a:pt x="3535" y="59"/>
                </a:lnTo>
                <a:lnTo>
                  <a:pt x="3564" y="66"/>
                </a:lnTo>
                <a:lnTo>
                  <a:pt x="3593" y="73"/>
                </a:lnTo>
                <a:lnTo>
                  <a:pt x="3615" y="81"/>
                </a:lnTo>
                <a:lnTo>
                  <a:pt x="3644" y="88"/>
                </a:lnTo>
                <a:lnTo>
                  <a:pt x="3674" y="95"/>
                </a:lnTo>
                <a:lnTo>
                  <a:pt x="3696" y="102"/>
                </a:lnTo>
                <a:lnTo>
                  <a:pt x="3718" y="110"/>
                </a:lnTo>
                <a:lnTo>
                  <a:pt x="3740" y="110"/>
                </a:lnTo>
                <a:lnTo>
                  <a:pt x="3761" y="110"/>
                </a:lnTo>
                <a:lnTo>
                  <a:pt x="3783" y="117"/>
                </a:lnTo>
                <a:lnTo>
                  <a:pt x="3805" y="117"/>
                </a:lnTo>
                <a:lnTo>
                  <a:pt x="3827" y="117"/>
                </a:lnTo>
                <a:lnTo>
                  <a:pt x="3849" y="117"/>
                </a:lnTo>
                <a:lnTo>
                  <a:pt x="3886" y="124"/>
                </a:lnTo>
                <a:lnTo>
                  <a:pt x="3908" y="132"/>
                </a:lnTo>
                <a:lnTo>
                  <a:pt x="3930" y="132"/>
                </a:lnTo>
                <a:lnTo>
                  <a:pt x="3952" y="139"/>
                </a:lnTo>
                <a:lnTo>
                  <a:pt x="3974" y="146"/>
                </a:lnTo>
                <a:lnTo>
                  <a:pt x="3996" y="146"/>
                </a:lnTo>
                <a:lnTo>
                  <a:pt x="4018" y="154"/>
                </a:lnTo>
                <a:lnTo>
                  <a:pt x="4040" y="161"/>
                </a:lnTo>
                <a:lnTo>
                  <a:pt x="4062" y="161"/>
                </a:lnTo>
                <a:lnTo>
                  <a:pt x="4083" y="161"/>
                </a:lnTo>
                <a:lnTo>
                  <a:pt x="4105" y="161"/>
                </a:lnTo>
                <a:lnTo>
                  <a:pt x="4127" y="168"/>
                </a:lnTo>
                <a:lnTo>
                  <a:pt x="4149" y="176"/>
                </a:lnTo>
                <a:lnTo>
                  <a:pt x="4179" y="176"/>
                </a:lnTo>
                <a:lnTo>
                  <a:pt x="4208" y="183"/>
                </a:lnTo>
                <a:lnTo>
                  <a:pt x="4230" y="190"/>
                </a:lnTo>
                <a:lnTo>
                  <a:pt x="4252" y="190"/>
                </a:lnTo>
                <a:lnTo>
                  <a:pt x="4274" y="190"/>
                </a:lnTo>
                <a:lnTo>
                  <a:pt x="4274" y="198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0240" y="1549440"/>
            <a:ext cx="6867720" cy="407880"/>
          </a:xfrm>
          <a:custGeom>
            <a:avLst/>
            <a:gdLst/>
            <a:ahLst/>
            <a:rect l="l" t="t" r="r" b="b"/>
            <a:pathLst>
              <a:path w="4326" h="257">
                <a:moveTo>
                  <a:pt x="0" y="219"/>
                </a:moveTo>
                <a:lnTo>
                  <a:pt x="29" y="205"/>
                </a:lnTo>
                <a:lnTo>
                  <a:pt x="51" y="190"/>
                </a:lnTo>
                <a:lnTo>
                  <a:pt x="73" y="183"/>
                </a:lnTo>
                <a:lnTo>
                  <a:pt x="95" y="168"/>
                </a:lnTo>
                <a:lnTo>
                  <a:pt x="117" y="161"/>
                </a:lnTo>
                <a:lnTo>
                  <a:pt x="139" y="146"/>
                </a:lnTo>
                <a:lnTo>
                  <a:pt x="161" y="132"/>
                </a:lnTo>
                <a:lnTo>
                  <a:pt x="183" y="117"/>
                </a:lnTo>
                <a:lnTo>
                  <a:pt x="212" y="102"/>
                </a:lnTo>
                <a:lnTo>
                  <a:pt x="234" y="95"/>
                </a:lnTo>
                <a:lnTo>
                  <a:pt x="256" y="80"/>
                </a:lnTo>
                <a:lnTo>
                  <a:pt x="300" y="80"/>
                </a:lnTo>
                <a:lnTo>
                  <a:pt x="322" y="80"/>
                </a:lnTo>
                <a:lnTo>
                  <a:pt x="344" y="80"/>
                </a:lnTo>
                <a:lnTo>
                  <a:pt x="366" y="73"/>
                </a:lnTo>
                <a:lnTo>
                  <a:pt x="388" y="66"/>
                </a:lnTo>
                <a:lnTo>
                  <a:pt x="402" y="44"/>
                </a:lnTo>
                <a:lnTo>
                  <a:pt x="424" y="44"/>
                </a:lnTo>
                <a:lnTo>
                  <a:pt x="446" y="36"/>
                </a:lnTo>
                <a:lnTo>
                  <a:pt x="468" y="29"/>
                </a:lnTo>
                <a:lnTo>
                  <a:pt x="498" y="29"/>
                </a:lnTo>
                <a:lnTo>
                  <a:pt x="519" y="29"/>
                </a:lnTo>
                <a:lnTo>
                  <a:pt x="556" y="29"/>
                </a:lnTo>
                <a:lnTo>
                  <a:pt x="593" y="29"/>
                </a:lnTo>
                <a:lnTo>
                  <a:pt x="629" y="22"/>
                </a:lnTo>
                <a:lnTo>
                  <a:pt x="658" y="14"/>
                </a:lnTo>
                <a:lnTo>
                  <a:pt x="680" y="14"/>
                </a:lnTo>
                <a:lnTo>
                  <a:pt x="710" y="14"/>
                </a:lnTo>
                <a:lnTo>
                  <a:pt x="739" y="14"/>
                </a:lnTo>
                <a:lnTo>
                  <a:pt x="761" y="7"/>
                </a:lnTo>
                <a:lnTo>
                  <a:pt x="783" y="7"/>
                </a:lnTo>
                <a:lnTo>
                  <a:pt x="805" y="0"/>
                </a:lnTo>
                <a:lnTo>
                  <a:pt x="827" y="0"/>
                </a:lnTo>
                <a:lnTo>
                  <a:pt x="849" y="0"/>
                </a:lnTo>
                <a:lnTo>
                  <a:pt x="878" y="0"/>
                </a:lnTo>
                <a:lnTo>
                  <a:pt x="900" y="0"/>
                </a:lnTo>
                <a:lnTo>
                  <a:pt x="937" y="0"/>
                </a:lnTo>
                <a:lnTo>
                  <a:pt x="966" y="0"/>
                </a:lnTo>
                <a:lnTo>
                  <a:pt x="988" y="0"/>
                </a:lnTo>
                <a:lnTo>
                  <a:pt x="1010" y="0"/>
                </a:lnTo>
                <a:lnTo>
                  <a:pt x="1032" y="0"/>
                </a:lnTo>
                <a:lnTo>
                  <a:pt x="1061" y="7"/>
                </a:lnTo>
                <a:lnTo>
                  <a:pt x="1090" y="7"/>
                </a:lnTo>
                <a:lnTo>
                  <a:pt x="1120" y="7"/>
                </a:lnTo>
                <a:lnTo>
                  <a:pt x="1141" y="7"/>
                </a:lnTo>
                <a:lnTo>
                  <a:pt x="1178" y="14"/>
                </a:lnTo>
                <a:lnTo>
                  <a:pt x="1207" y="22"/>
                </a:lnTo>
                <a:lnTo>
                  <a:pt x="1237" y="29"/>
                </a:lnTo>
                <a:lnTo>
                  <a:pt x="1259" y="29"/>
                </a:lnTo>
                <a:lnTo>
                  <a:pt x="1288" y="36"/>
                </a:lnTo>
                <a:lnTo>
                  <a:pt x="1339" y="44"/>
                </a:lnTo>
                <a:lnTo>
                  <a:pt x="1376" y="58"/>
                </a:lnTo>
                <a:lnTo>
                  <a:pt x="1405" y="66"/>
                </a:lnTo>
                <a:lnTo>
                  <a:pt x="1434" y="73"/>
                </a:lnTo>
                <a:lnTo>
                  <a:pt x="1478" y="88"/>
                </a:lnTo>
                <a:lnTo>
                  <a:pt x="1522" y="95"/>
                </a:lnTo>
                <a:lnTo>
                  <a:pt x="1551" y="102"/>
                </a:lnTo>
                <a:lnTo>
                  <a:pt x="1588" y="102"/>
                </a:lnTo>
                <a:lnTo>
                  <a:pt x="1610" y="102"/>
                </a:lnTo>
                <a:lnTo>
                  <a:pt x="1646" y="110"/>
                </a:lnTo>
                <a:lnTo>
                  <a:pt x="1668" y="117"/>
                </a:lnTo>
                <a:lnTo>
                  <a:pt x="1698" y="124"/>
                </a:lnTo>
                <a:lnTo>
                  <a:pt x="1720" y="132"/>
                </a:lnTo>
                <a:lnTo>
                  <a:pt x="1763" y="146"/>
                </a:lnTo>
                <a:lnTo>
                  <a:pt x="1793" y="154"/>
                </a:lnTo>
                <a:lnTo>
                  <a:pt x="1815" y="154"/>
                </a:lnTo>
                <a:lnTo>
                  <a:pt x="1844" y="161"/>
                </a:lnTo>
                <a:lnTo>
                  <a:pt x="1873" y="176"/>
                </a:lnTo>
                <a:lnTo>
                  <a:pt x="1895" y="190"/>
                </a:lnTo>
                <a:lnTo>
                  <a:pt x="1924" y="205"/>
                </a:lnTo>
                <a:lnTo>
                  <a:pt x="1954" y="219"/>
                </a:lnTo>
                <a:lnTo>
                  <a:pt x="1983" y="227"/>
                </a:lnTo>
                <a:lnTo>
                  <a:pt x="2005" y="234"/>
                </a:lnTo>
                <a:lnTo>
                  <a:pt x="2027" y="241"/>
                </a:lnTo>
                <a:lnTo>
                  <a:pt x="2049" y="249"/>
                </a:lnTo>
                <a:lnTo>
                  <a:pt x="2071" y="249"/>
                </a:lnTo>
                <a:lnTo>
                  <a:pt x="2093" y="256"/>
                </a:lnTo>
                <a:lnTo>
                  <a:pt x="2122" y="256"/>
                </a:lnTo>
                <a:lnTo>
                  <a:pt x="2151" y="256"/>
                </a:lnTo>
                <a:lnTo>
                  <a:pt x="2173" y="256"/>
                </a:lnTo>
                <a:lnTo>
                  <a:pt x="2203" y="256"/>
                </a:lnTo>
                <a:lnTo>
                  <a:pt x="2232" y="256"/>
                </a:lnTo>
                <a:lnTo>
                  <a:pt x="2254" y="256"/>
                </a:lnTo>
                <a:lnTo>
                  <a:pt x="2283" y="256"/>
                </a:lnTo>
                <a:lnTo>
                  <a:pt x="2305" y="256"/>
                </a:lnTo>
                <a:lnTo>
                  <a:pt x="2334" y="256"/>
                </a:lnTo>
                <a:lnTo>
                  <a:pt x="2364" y="249"/>
                </a:lnTo>
                <a:lnTo>
                  <a:pt x="2400" y="249"/>
                </a:lnTo>
                <a:lnTo>
                  <a:pt x="2422" y="249"/>
                </a:lnTo>
                <a:lnTo>
                  <a:pt x="2444" y="249"/>
                </a:lnTo>
                <a:lnTo>
                  <a:pt x="2466" y="249"/>
                </a:lnTo>
                <a:lnTo>
                  <a:pt x="2488" y="249"/>
                </a:lnTo>
                <a:lnTo>
                  <a:pt x="2517" y="241"/>
                </a:lnTo>
                <a:lnTo>
                  <a:pt x="2539" y="241"/>
                </a:lnTo>
                <a:lnTo>
                  <a:pt x="2568" y="241"/>
                </a:lnTo>
                <a:lnTo>
                  <a:pt x="2605" y="241"/>
                </a:lnTo>
                <a:lnTo>
                  <a:pt x="2634" y="241"/>
                </a:lnTo>
                <a:lnTo>
                  <a:pt x="2656" y="241"/>
                </a:lnTo>
                <a:lnTo>
                  <a:pt x="2686" y="241"/>
                </a:lnTo>
                <a:lnTo>
                  <a:pt x="2707" y="241"/>
                </a:lnTo>
                <a:lnTo>
                  <a:pt x="2737" y="241"/>
                </a:lnTo>
                <a:lnTo>
                  <a:pt x="2766" y="241"/>
                </a:lnTo>
                <a:lnTo>
                  <a:pt x="2788" y="241"/>
                </a:lnTo>
                <a:lnTo>
                  <a:pt x="2817" y="241"/>
                </a:lnTo>
                <a:lnTo>
                  <a:pt x="2839" y="241"/>
                </a:lnTo>
                <a:lnTo>
                  <a:pt x="2876" y="241"/>
                </a:lnTo>
                <a:lnTo>
                  <a:pt x="2905" y="241"/>
                </a:lnTo>
                <a:lnTo>
                  <a:pt x="2934" y="241"/>
                </a:lnTo>
                <a:lnTo>
                  <a:pt x="2964" y="241"/>
                </a:lnTo>
                <a:lnTo>
                  <a:pt x="2993" y="241"/>
                </a:lnTo>
                <a:lnTo>
                  <a:pt x="3022" y="241"/>
                </a:lnTo>
                <a:lnTo>
                  <a:pt x="3051" y="241"/>
                </a:lnTo>
                <a:lnTo>
                  <a:pt x="3073" y="241"/>
                </a:lnTo>
                <a:lnTo>
                  <a:pt x="3095" y="249"/>
                </a:lnTo>
                <a:lnTo>
                  <a:pt x="3117" y="249"/>
                </a:lnTo>
                <a:lnTo>
                  <a:pt x="3139" y="249"/>
                </a:lnTo>
                <a:lnTo>
                  <a:pt x="3161" y="256"/>
                </a:lnTo>
                <a:lnTo>
                  <a:pt x="3183" y="256"/>
                </a:lnTo>
                <a:lnTo>
                  <a:pt x="3205" y="256"/>
                </a:lnTo>
                <a:lnTo>
                  <a:pt x="3242" y="256"/>
                </a:lnTo>
                <a:lnTo>
                  <a:pt x="3264" y="256"/>
                </a:lnTo>
                <a:lnTo>
                  <a:pt x="3286" y="249"/>
                </a:lnTo>
                <a:lnTo>
                  <a:pt x="3308" y="249"/>
                </a:lnTo>
                <a:lnTo>
                  <a:pt x="3329" y="249"/>
                </a:lnTo>
                <a:lnTo>
                  <a:pt x="3359" y="249"/>
                </a:lnTo>
                <a:lnTo>
                  <a:pt x="3381" y="249"/>
                </a:lnTo>
                <a:lnTo>
                  <a:pt x="3403" y="249"/>
                </a:lnTo>
                <a:lnTo>
                  <a:pt x="3425" y="249"/>
                </a:lnTo>
                <a:lnTo>
                  <a:pt x="3447" y="241"/>
                </a:lnTo>
                <a:lnTo>
                  <a:pt x="3476" y="241"/>
                </a:lnTo>
                <a:lnTo>
                  <a:pt x="3498" y="241"/>
                </a:lnTo>
                <a:lnTo>
                  <a:pt x="3520" y="241"/>
                </a:lnTo>
                <a:lnTo>
                  <a:pt x="3542" y="241"/>
                </a:lnTo>
                <a:lnTo>
                  <a:pt x="3564" y="241"/>
                </a:lnTo>
                <a:lnTo>
                  <a:pt x="3608" y="241"/>
                </a:lnTo>
                <a:lnTo>
                  <a:pt x="3630" y="241"/>
                </a:lnTo>
                <a:lnTo>
                  <a:pt x="3651" y="234"/>
                </a:lnTo>
                <a:lnTo>
                  <a:pt x="3681" y="234"/>
                </a:lnTo>
                <a:lnTo>
                  <a:pt x="3717" y="234"/>
                </a:lnTo>
                <a:lnTo>
                  <a:pt x="3739" y="227"/>
                </a:lnTo>
                <a:lnTo>
                  <a:pt x="3761" y="227"/>
                </a:lnTo>
                <a:lnTo>
                  <a:pt x="3783" y="227"/>
                </a:lnTo>
                <a:lnTo>
                  <a:pt x="3805" y="227"/>
                </a:lnTo>
                <a:lnTo>
                  <a:pt x="3827" y="234"/>
                </a:lnTo>
                <a:lnTo>
                  <a:pt x="4325" y="234"/>
                </a:lnTo>
                <a:lnTo>
                  <a:pt x="4317" y="234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36520" y="2082960"/>
            <a:ext cx="6321600" cy="641160"/>
          </a:xfrm>
          <a:custGeom>
            <a:avLst/>
            <a:gdLst/>
            <a:ahLst/>
            <a:rect l="l" t="t" r="r" b="b"/>
            <a:pathLst>
              <a:path w="3982" h="404">
                <a:moveTo>
                  <a:pt x="0" y="257"/>
                </a:moveTo>
                <a:lnTo>
                  <a:pt x="15" y="231"/>
                </a:lnTo>
                <a:lnTo>
                  <a:pt x="30" y="211"/>
                </a:lnTo>
                <a:lnTo>
                  <a:pt x="45" y="192"/>
                </a:lnTo>
                <a:lnTo>
                  <a:pt x="60" y="172"/>
                </a:lnTo>
                <a:lnTo>
                  <a:pt x="74" y="152"/>
                </a:lnTo>
                <a:lnTo>
                  <a:pt x="90" y="132"/>
                </a:lnTo>
                <a:lnTo>
                  <a:pt x="112" y="112"/>
                </a:lnTo>
                <a:lnTo>
                  <a:pt x="135" y="99"/>
                </a:lnTo>
                <a:lnTo>
                  <a:pt x="157" y="86"/>
                </a:lnTo>
                <a:lnTo>
                  <a:pt x="180" y="73"/>
                </a:lnTo>
                <a:lnTo>
                  <a:pt x="210" y="59"/>
                </a:lnTo>
                <a:lnTo>
                  <a:pt x="232" y="46"/>
                </a:lnTo>
                <a:lnTo>
                  <a:pt x="255" y="33"/>
                </a:lnTo>
                <a:lnTo>
                  <a:pt x="277" y="27"/>
                </a:lnTo>
                <a:lnTo>
                  <a:pt x="300" y="19"/>
                </a:lnTo>
                <a:lnTo>
                  <a:pt x="322" y="13"/>
                </a:lnTo>
                <a:lnTo>
                  <a:pt x="345" y="7"/>
                </a:lnTo>
                <a:lnTo>
                  <a:pt x="367" y="7"/>
                </a:lnTo>
                <a:lnTo>
                  <a:pt x="390" y="0"/>
                </a:lnTo>
                <a:lnTo>
                  <a:pt x="412" y="0"/>
                </a:lnTo>
                <a:lnTo>
                  <a:pt x="435" y="0"/>
                </a:lnTo>
                <a:lnTo>
                  <a:pt x="457" y="0"/>
                </a:lnTo>
                <a:lnTo>
                  <a:pt x="480" y="0"/>
                </a:lnTo>
                <a:lnTo>
                  <a:pt x="503" y="0"/>
                </a:lnTo>
                <a:lnTo>
                  <a:pt x="525" y="0"/>
                </a:lnTo>
                <a:lnTo>
                  <a:pt x="547" y="0"/>
                </a:lnTo>
                <a:lnTo>
                  <a:pt x="569" y="0"/>
                </a:lnTo>
                <a:lnTo>
                  <a:pt x="592" y="7"/>
                </a:lnTo>
                <a:lnTo>
                  <a:pt x="614" y="7"/>
                </a:lnTo>
                <a:lnTo>
                  <a:pt x="637" y="7"/>
                </a:lnTo>
                <a:lnTo>
                  <a:pt x="667" y="7"/>
                </a:lnTo>
                <a:lnTo>
                  <a:pt x="690" y="13"/>
                </a:lnTo>
                <a:lnTo>
                  <a:pt x="711" y="19"/>
                </a:lnTo>
                <a:lnTo>
                  <a:pt x="742" y="27"/>
                </a:lnTo>
                <a:lnTo>
                  <a:pt x="765" y="27"/>
                </a:lnTo>
                <a:lnTo>
                  <a:pt x="794" y="33"/>
                </a:lnTo>
                <a:lnTo>
                  <a:pt x="824" y="39"/>
                </a:lnTo>
                <a:lnTo>
                  <a:pt x="847" y="39"/>
                </a:lnTo>
                <a:lnTo>
                  <a:pt x="876" y="46"/>
                </a:lnTo>
                <a:lnTo>
                  <a:pt x="899" y="46"/>
                </a:lnTo>
                <a:lnTo>
                  <a:pt x="922" y="53"/>
                </a:lnTo>
                <a:lnTo>
                  <a:pt x="944" y="53"/>
                </a:lnTo>
                <a:lnTo>
                  <a:pt x="967" y="59"/>
                </a:lnTo>
                <a:lnTo>
                  <a:pt x="997" y="59"/>
                </a:lnTo>
                <a:lnTo>
                  <a:pt x="1027" y="59"/>
                </a:lnTo>
                <a:lnTo>
                  <a:pt x="1050" y="66"/>
                </a:lnTo>
                <a:lnTo>
                  <a:pt x="1072" y="66"/>
                </a:lnTo>
                <a:lnTo>
                  <a:pt x="1095" y="66"/>
                </a:lnTo>
                <a:lnTo>
                  <a:pt x="1117" y="73"/>
                </a:lnTo>
                <a:lnTo>
                  <a:pt x="1140" y="73"/>
                </a:lnTo>
                <a:lnTo>
                  <a:pt x="1169" y="73"/>
                </a:lnTo>
                <a:lnTo>
                  <a:pt x="1206" y="86"/>
                </a:lnTo>
                <a:lnTo>
                  <a:pt x="1229" y="86"/>
                </a:lnTo>
                <a:lnTo>
                  <a:pt x="1251" y="92"/>
                </a:lnTo>
                <a:lnTo>
                  <a:pt x="1282" y="99"/>
                </a:lnTo>
                <a:lnTo>
                  <a:pt x="1312" y="99"/>
                </a:lnTo>
                <a:lnTo>
                  <a:pt x="1342" y="99"/>
                </a:lnTo>
                <a:lnTo>
                  <a:pt x="1364" y="99"/>
                </a:lnTo>
                <a:lnTo>
                  <a:pt x="1387" y="99"/>
                </a:lnTo>
                <a:lnTo>
                  <a:pt x="1416" y="106"/>
                </a:lnTo>
                <a:lnTo>
                  <a:pt x="1447" y="106"/>
                </a:lnTo>
                <a:lnTo>
                  <a:pt x="1470" y="112"/>
                </a:lnTo>
                <a:lnTo>
                  <a:pt x="1492" y="112"/>
                </a:lnTo>
                <a:lnTo>
                  <a:pt x="1514" y="125"/>
                </a:lnTo>
                <a:lnTo>
                  <a:pt x="1544" y="138"/>
                </a:lnTo>
                <a:lnTo>
                  <a:pt x="1567" y="138"/>
                </a:lnTo>
                <a:lnTo>
                  <a:pt x="1589" y="152"/>
                </a:lnTo>
                <a:lnTo>
                  <a:pt x="1619" y="158"/>
                </a:lnTo>
                <a:lnTo>
                  <a:pt x="1642" y="164"/>
                </a:lnTo>
                <a:lnTo>
                  <a:pt x="1664" y="172"/>
                </a:lnTo>
                <a:lnTo>
                  <a:pt x="1687" y="178"/>
                </a:lnTo>
                <a:lnTo>
                  <a:pt x="1709" y="192"/>
                </a:lnTo>
                <a:lnTo>
                  <a:pt x="1739" y="204"/>
                </a:lnTo>
                <a:lnTo>
                  <a:pt x="1769" y="218"/>
                </a:lnTo>
                <a:lnTo>
                  <a:pt x="1791" y="218"/>
                </a:lnTo>
                <a:lnTo>
                  <a:pt x="1814" y="231"/>
                </a:lnTo>
                <a:lnTo>
                  <a:pt x="1836" y="238"/>
                </a:lnTo>
                <a:lnTo>
                  <a:pt x="1859" y="238"/>
                </a:lnTo>
                <a:lnTo>
                  <a:pt x="1881" y="238"/>
                </a:lnTo>
                <a:lnTo>
                  <a:pt x="1904" y="238"/>
                </a:lnTo>
                <a:lnTo>
                  <a:pt x="1926" y="238"/>
                </a:lnTo>
                <a:lnTo>
                  <a:pt x="1949" y="244"/>
                </a:lnTo>
                <a:lnTo>
                  <a:pt x="1972" y="244"/>
                </a:lnTo>
                <a:lnTo>
                  <a:pt x="1994" y="244"/>
                </a:lnTo>
                <a:lnTo>
                  <a:pt x="2017" y="244"/>
                </a:lnTo>
                <a:lnTo>
                  <a:pt x="2039" y="244"/>
                </a:lnTo>
                <a:lnTo>
                  <a:pt x="2062" y="244"/>
                </a:lnTo>
                <a:lnTo>
                  <a:pt x="2084" y="244"/>
                </a:lnTo>
                <a:lnTo>
                  <a:pt x="2107" y="244"/>
                </a:lnTo>
                <a:lnTo>
                  <a:pt x="2129" y="244"/>
                </a:lnTo>
                <a:lnTo>
                  <a:pt x="2159" y="244"/>
                </a:lnTo>
                <a:lnTo>
                  <a:pt x="2182" y="251"/>
                </a:lnTo>
                <a:lnTo>
                  <a:pt x="2204" y="257"/>
                </a:lnTo>
                <a:lnTo>
                  <a:pt x="2227" y="264"/>
                </a:lnTo>
                <a:lnTo>
                  <a:pt x="2256" y="264"/>
                </a:lnTo>
                <a:lnTo>
                  <a:pt x="2279" y="271"/>
                </a:lnTo>
                <a:lnTo>
                  <a:pt x="2301" y="271"/>
                </a:lnTo>
                <a:lnTo>
                  <a:pt x="2324" y="277"/>
                </a:lnTo>
                <a:lnTo>
                  <a:pt x="2361" y="283"/>
                </a:lnTo>
                <a:lnTo>
                  <a:pt x="2383" y="283"/>
                </a:lnTo>
                <a:lnTo>
                  <a:pt x="2414" y="290"/>
                </a:lnTo>
                <a:lnTo>
                  <a:pt x="2437" y="290"/>
                </a:lnTo>
                <a:lnTo>
                  <a:pt x="2459" y="290"/>
                </a:lnTo>
                <a:lnTo>
                  <a:pt x="2503" y="297"/>
                </a:lnTo>
                <a:lnTo>
                  <a:pt x="2541" y="297"/>
                </a:lnTo>
                <a:lnTo>
                  <a:pt x="2571" y="297"/>
                </a:lnTo>
                <a:lnTo>
                  <a:pt x="2593" y="297"/>
                </a:lnTo>
                <a:lnTo>
                  <a:pt x="2623" y="297"/>
                </a:lnTo>
                <a:lnTo>
                  <a:pt x="2668" y="297"/>
                </a:lnTo>
                <a:lnTo>
                  <a:pt x="2691" y="297"/>
                </a:lnTo>
                <a:lnTo>
                  <a:pt x="2713" y="297"/>
                </a:lnTo>
                <a:lnTo>
                  <a:pt x="2736" y="297"/>
                </a:lnTo>
                <a:lnTo>
                  <a:pt x="2767" y="297"/>
                </a:lnTo>
                <a:lnTo>
                  <a:pt x="2788" y="297"/>
                </a:lnTo>
                <a:lnTo>
                  <a:pt x="2811" y="297"/>
                </a:lnTo>
                <a:lnTo>
                  <a:pt x="2833" y="297"/>
                </a:lnTo>
                <a:lnTo>
                  <a:pt x="2864" y="297"/>
                </a:lnTo>
                <a:lnTo>
                  <a:pt x="2886" y="297"/>
                </a:lnTo>
                <a:lnTo>
                  <a:pt x="2909" y="297"/>
                </a:lnTo>
                <a:lnTo>
                  <a:pt x="2931" y="297"/>
                </a:lnTo>
                <a:lnTo>
                  <a:pt x="2953" y="297"/>
                </a:lnTo>
                <a:lnTo>
                  <a:pt x="2984" y="297"/>
                </a:lnTo>
                <a:lnTo>
                  <a:pt x="3006" y="297"/>
                </a:lnTo>
                <a:lnTo>
                  <a:pt x="3029" y="297"/>
                </a:lnTo>
                <a:lnTo>
                  <a:pt x="3058" y="297"/>
                </a:lnTo>
                <a:lnTo>
                  <a:pt x="3081" y="303"/>
                </a:lnTo>
                <a:lnTo>
                  <a:pt x="3118" y="317"/>
                </a:lnTo>
                <a:lnTo>
                  <a:pt x="3140" y="323"/>
                </a:lnTo>
                <a:lnTo>
                  <a:pt x="3171" y="337"/>
                </a:lnTo>
                <a:lnTo>
                  <a:pt x="3208" y="349"/>
                </a:lnTo>
                <a:lnTo>
                  <a:pt x="3231" y="357"/>
                </a:lnTo>
                <a:lnTo>
                  <a:pt x="3261" y="363"/>
                </a:lnTo>
                <a:lnTo>
                  <a:pt x="3291" y="369"/>
                </a:lnTo>
                <a:lnTo>
                  <a:pt x="3321" y="369"/>
                </a:lnTo>
                <a:lnTo>
                  <a:pt x="3350" y="369"/>
                </a:lnTo>
                <a:lnTo>
                  <a:pt x="3381" y="369"/>
                </a:lnTo>
                <a:lnTo>
                  <a:pt x="3411" y="369"/>
                </a:lnTo>
                <a:lnTo>
                  <a:pt x="3433" y="369"/>
                </a:lnTo>
                <a:lnTo>
                  <a:pt x="3456" y="369"/>
                </a:lnTo>
                <a:lnTo>
                  <a:pt x="3479" y="369"/>
                </a:lnTo>
                <a:lnTo>
                  <a:pt x="3508" y="369"/>
                </a:lnTo>
                <a:lnTo>
                  <a:pt x="3531" y="376"/>
                </a:lnTo>
                <a:lnTo>
                  <a:pt x="3553" y="376"/>
                </a:lnTo>
                <a:lnTo>
                  <a:pt x="3583" y="376"/>
                </a:lnTo>
                <a:lnTo>
                  <a:pt x="3606" y="376"/>
                </a:lnTo>
                <a:lnTo>
                  <a:pt x="3628" y="376"/>
                </a:lnTo>
                <a:lnTo>
                  <a:pt x="3658" y="376"/>
                </a:lnTo>
                <a:lnTo>
                  <a:pt x="3680" y="376"/>
                </a:lnTo>
                <a:lnTo>
                  <a:pt x="3703" y="383"/>
                </a:lnTo>
                <a:lnTo>
                  <a:pt x="3725" y="389"/>
                </a:lnTo>
                <a:lnTo>
                  <a:pt x="3748" y="389"/>
                </a:lnTo>
                <a:lnTo>
                  <a:pt x="3770" y="389"/>
                </a:lnTo>
                <a:lnTo>
                  <a:pt x="3793" y="396"/>
                </a:lnTo>
                <a:lnTo>
                  <a:pt x="3816" y="396"/>
                </a:lnTo>
                <a:lnTo>
                  <a:pt x="3838" y="403"/>
                </a:lnTo>
                <a:lnTo>
                  <a:pt x="3861" y="403"/>
                </a:lnTo>
                <a:lnTo>
                  <a:pt x="3890" y="403"/>
                </a:lnTo>
                <a:lnTo>
                  <a:pt x="3913" y="403"/>
                </a:lnTo>
                <a:lnTo>
                  <a:pt x="3935" y="403"/>
                </a:lnTo>
                <a:lnTo>
                  <a:pt x="3958" y="403"/>
                </a:lnTo>
                <a:lnTo>
                  <a:pt x="3981" y="403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14680" y="2803680"/>
            <a:ext cx="5763960" cy="501480"/>
          </a:xfrm>
          <a:custGeom>
            <a:avLst/>
            <a:gdLst/>
            <a:ahLst/>
            <a:rect l="l" t="t" r="r" b="b"/>
            <a:pathLst>
              <a:path w="3631" h="316">
                <a:moveTo>
                  <a:pt x="0" y="300"/>
                </a:moveTo>
                <a:lnTo>
                  <a:pt x="30" y="285"/>
                </a:lnTo>
                <a:lnTo>
                  <a:pt x="52" y="278"/>
                </a:lnTo>
                <a:lnTo>
                  <a:pt x="74" y="278"/>
                </a:lnTo>
                <a:lnTo>
                  <a:pt x="96" y="263"/>
                </a:lnTo>
                <a:lnTo>
                  <a:pt x="117" y="256"/>
                </a:lnTo>
                <a:lnTo>
                  <a:pt x="139" y="249"/>
                </a:lnTo>
                <a:lnTo>
                  <a:pt x="161" y="241"/>
                </a:lnTo>
                <a:lnTo>
                  <a:pt x="183" y="234"/>
                </a:lnTo>
                <a:lnTo>
                  <a:pt x="205" y="227"/>
                </a:lnTo>
                <a:lnTo>
                  <a:pt x="227" y="219"/>
                </a:lnTo>
                <a:lnTo>
                  <a:pt x="249" y="212"/>
                </a:lnTo>
                <a:lnTo>
                  <a:pt x="271" y="197"/>
                </a:lnTo>
                <a:lnTo>
                  <a:pt x="293" y="190"/>
                </a:lnTo>
                <a:lnTo>
                  <a:pt x="315" y="183"/>
                </a:lnTo>
                <a:lnTo>
                  <a:pt x="337" y="175"/>
                </a:lnTo>
                <a:lnTo>
                  <a:pt x="359" y="161"/>
                </a:lnTo>
                <a:lnTo>
                  <a:pt x="381" y="146"/>
                </a:lnTo>
                <a:lnTo>
                  <a:pt x="403" y="132"/>
                </a:lnTo>
                <a:lnTo>
                  <a:pt x="425" y="117"/>
                </a:lnTo>
                <a:lnTo>
                  <a:pt x="447" y="102"/>
                </a:lnTo>
                <a:lnTo>
                  <a:pt x="469" y="95"/>
                </a:lnTo>
                <a:lnTo>
                  <a:pt x="491" y="88"/>
                </a:lnTo>
                <a:lnTo>
                  <a:pt x="513" y="73"/>
                </a:lnTo>
                <a:lnTo>
                  <a:pt x="535" y="73"/>
                </a:lnTo>
                <a:lnTo>
                  <a:pt x="557" y="66"/>
                </a:lnTo>
                <a:lnTo>
                  <a:pt x="579" y="58"/>
                </a:lnTo>
                <a:lnTo>
                  <a:pt x="600" y="51"/>
                </a:lnTo>
                <a:lnTo>
                  <a:pt x="622" y="44"/>
                </a:lnTo>
                <a:lnTo>
                  <a:pt x="644" y="44"/>
                </a:lnTo>
                <a:lnTo>
                  <a:pt x="666" y="29"/>
                </a:lnTo>
                <a:lnTo>
                  <a:pt x="688" y="22"/>
                </a:lnTo>
                <a:lnTo>
                  <a:pt x="710" y="22"/>
                </a:lnTo>
                <a:lnTo>
                  <a:pt x="732" y="14"/>
                </a:lnTo>
                <a:lnTo>
                  <a:pt x="754" y="14"/>
                </a:lnTo>
                <a:lnTo>
                  <a:pt x="776" y="14"/>
                </a:lnTo>
                <a:lnTo>
                  <a:pt x="798" y="7"/>
                </a:lnTo>
                <a:lnTo>
                  <a:pt x="827" y="7"/>
                </a:lnTo>
                <a:lnTo>
                  <a:pt x="849" y="7"/>
                </a:lnTo>
                <a:lnTo>
                  <a:pt x="879" y="7"/>
                </a:lnTo>
                <a:lnTo>
                  <a:pt x="908" y="7"/>
                </a:lnTo>
                <a:lnTo>
                  <a:pt x="930" y="7"/>
                </a:lnTo>
                <a:lnTo>
                  <a:pt x="952" y="7"/>
                </a:lnTo>
                <a:lnTo>
                  <a:pt x="974" y="7"/>
                </a:lnTo>
                <a:lnTo>
                  <a:pt x="996" y="7"/>
                </a:lnTo>
                <a:lnTo>
                  <a:pt x="1025" y="7"/>
                </a:lnTo>
                <a:lnTo>
                  <a:pt x="1047" y="7"/>
                </a:lnTo>
                <a:lnTo>
                  <a:pt x="1069" y="7"/>
                </a:lnTo>
                <a:lnTo>
                  <a:pt x="1091" y="7"/>
                </a:lnTo>
                <a:lnTo>
                  <a:pt x="1113" y="7"/>
                </a:lnTo>
                <a:lnTo>
                  <a:pt x="1135" y="7"/>
                </a:lnTo>
                <a:lnTo>
                  <a:pt x="1157" y="7"/>
                </a:lnTo>
                <a:lnTo>
                  <a:pt x="1179" y="7"/>
                </a:lnTo>
                <a:lnTo>
                  <a:pt x="1201" y="7"/>
                </a:lnTo>
                <a:lnTo>
                  <a:pt x="1222" y="0"/>
                </a:lnTo>
                <a:lnTo>
                  <a:pt x="1244" y="0"/>
                </a:lnTo>
                <a:lnTo>
                  <a:pt x="1266" y="0"/>
                </a:lnTo>
                <a:lnTo>
                  <a:pt x="1288" y="0"/>
                </a:lnTo>
                <a:lnTo>
                  <a:pt x="1310" y="0"/>
                </a:lnTo>
                <a:lnTo>
                  <a:pt x="1332" y="0"/>
                </a:lnTo>
                <a:lnTo>
                  <a:pt x="1354" y="0"/>
                </a:lnTo>
                <a:lnTo>
                  <a:pt x="1376" y="7"/>
                </a:lnTo>
                <a:lnTo>
                  <a:pt x="1405" y="7"/>
                </a:lnTo>
                <a:lnTo>
                  <a:pt x="1427" y="14"/>
                </a:lnTo>
                <a:lnTo>
                  <a:pt x="1457" y="14"/>
                </a:lnTo>
                <a:lnTo>
                  <a:pt x="1479" y="14"/>
                </a:lnTo>
                <a:lnTo>
                  <a:pt x="1501" y="22"/>
                </a:lnTo>
                <a:lnTo>
                  <a:pt x="1522" y="22"/>
                </a:lnTo>
                <a:lnTo>
                  <a:pt x="1544" y="22"/>
                </a:lnTo>
                <a:lnTo>
                  <a:pt x="1566" y="22"/>
                </a:lnTo>
                <a:lnTo>
                  <a:pt x="1588" y="22"/>
                </a:lnTo>
                <a:lnTo>
                  <a:pt x="1610" y="29"/>
                </a:lnTo>
                <a:lnTo>
                  <a:pt x="1632" y="29"/>
                </a:lnTo>
                <a:lnTo>
                  <a:pt x="1654" y="29"/>
                </a:lnTo>
                <a:lnTo>
                  <a:pt x="1676" y="36"/>
                </a:lnTo>
                <a:lnTo>
                  <a:pt x="1698" y="44"/>
                </a:lnTo>
                <a:lnTo>
                  <a:pt x="1720" y="44"/>
                </a:lnTo>
                <a:lnTo>
                  <a:pt x="1742" y="51"/>
                </a:lnTo>
                <a:lnTo>
                  <a:pt x="1764" y="58"/>
                </a:lnTo>
                <a:lnTo>
                  <a:pt x="1786" y="66"/>
                </a:lnTo>
                <a:lnTo>
                  <a:pt x="1808" y="73"/>
                </a:lnTo>
                <a:lnTo>
                  <a:pt x="1830" y="73"/>
                </a:lnTo>
                <a:lnTo>
                  <a:pt x="1852" y="80"/>
                </a:lnTo>
                <a:lnTo>
                  <a:pt x="1874" y="88"/>
                </a:lnTo>
                <a:lnTo>
                  <a:pt x="1896" y="88"/>
                </a:lnTo>
                <a:lnTo>
                  <a:pt x="1918" y="95"/>
                </a:lnTo>
                <a:lnTo>
                  <a:pt x="1940" y="95"/>
                </a:lnTo>
                <a:lnTo>
                  <a:pt x="1962" y="102"/>
                </a:lnTo>
                <a:lnTo>
                  <a:pt x="1991" y="110"/>
                </a:lnTo>
                <a:lnTo>
                  <a:pt x="2013" y="117"/>
                </a:lnTo>
                <a:lnTo>
                  <a:pt x="2035" y="117"/>
                </a:lnTo>
                <a:lnTo>
                  <a:pt x="2057" y="117"/>
                </a:lnTo>
                <a:lnTo>
                  <a:pt x="2079" y="124"/>
                </a:lnTo>
                <a:lnTo>
                  <a:pt x="2101" y="132"/>
                </a:lnTo>
                <a:lnTo>
                  <a:pt x="2123" y="132"/>
                </a:lnTo>
                <a:lnTo>
                  <a:pt x="2145" y="132"/>
                </a:lnTo>
                <a:lnTo>
                  <a:pt x="2166" y="139"/>
                </a:lnTo>
                <a:lnTo>
                  <a:pt x="2196" y="146"/>
                </a:lnTo>
                <a:lnTo>
                  <a:pt x="2218" y="146"/>
                </a:lnTo>
                <a:lnTo>
                  <a:pt x="2240" y="154"/>
                </a:lnTo>
                <a:lnTo>
                  <a:pt x="2262" y="161"/>
                </a:lnTo>
                <a:lnTo>
                  <a:pt x="2284" y="161"/>
                </a:lnTo>
                <a:lnTo>
                  <a:pt x="2305" y="161"/>
                </a:lnTo>
                <a:lnTo>
                  <a:pt x="2327" y="168"/>
                </a:lnTo>
                <a:lnTo>
                  <a:pt x="2349" y="168"/>
                </a:lnTo>
                <a:lnTo>
                  <a:pt x="2371" y="175"/>
                </a:lnTo>
                <a:lnTo>
                  <a:pt x="2393" y="183"/>
                </a:lnTo>
                <a:lnTo>
                  <a:pt x="2423" y="190"/>
                </a:lnTo>
                <a:lnTo>
                  <a:pt x="2459" y="190"/>
                </a:lnTo>
                <a:lnTo>
                  <a:pt x="2481" y="197"/>
                </a:lnTo>
                <a:lnTo>
                  <a:pt x="2503" y="205"/>
                </a:lnTo>
                <a:lnTo>
                  <a:pt x="2525" y="205"/>
                </a:lnTo>
                <a:lnTo>
                  <a:pt x="2547" y="212"/>
                </a:lnTo>
                <a:lnTo>
                  <a:pt x="2576" y="219"/>
                </a:lnTo>
                <a:lnTo>
                  <a:pt x="2606" y="227"/>
                </a:lnTo>
                <a:lnTo>
                  <a:pt x="2627" y="234"/>
                </a:lnTo>
                <a:lnTo>
                  <a:pt x="2649" y="241"/>
                </a:lnTo>
                <a:lnTo>
                  <a:pt x="2679" y="249"/>
                </a:lnTo>
                <a:lnTo>
                  <a:pt x="2701" y="249"/>
                </a:lnTo>
                <a:lnTo>
                  <a:pt x="2723" y="256"/>
                </a:lnTo>
                <a:lnTo>
                  <a:pt x="2745" y="256"/>
                </a:lnTo>
                <a:lnTo>
                  <a:pt x="2774" y="256"/>
                </a:lnTo>
                <a:lnTo>
                  <a:pt x="2796" y="256"/>
                </a:lnTo>
                <a:lnTo>
                  <a:pt x="2825" y="263"/>
                </a:lnTo>
                <a:lnTo>
                  <a:pt x="2869" y="271"/>
                </a:lnTo>
                <a:lnTo>
                  <a:pt x="2971" y="278"/>
                </a:lnTo>
                <a:lnTo>
                  <a:pt x="3074" y="293"/>
                </a:lnTo>
                <a:lnTo>
                  <a:pt x="3118" y="293"/>
                </a:lnTo>
                <a:lnTo>
                  <a:pt x="3154" y="300"/>
                </a:lnTo>
                <a:lnTo>
                  <a:pt x="3176" y="307"/>
                </a:lnTo>
                <a:lnTo>
                  <a:pt x="3198" y="307"/>
                </a:lnTo>
                <a:lnTo>
                  <a:pt x="3220" y="315"/>
                </a:lnTo>
                <a:lnTo>
                  <a:pt x="3257" y="315"/>
                </a:lnTo>
                <a:lnTo>
                  <a:pt x="3279" y="315"/>
                </a:lnTo>
                <a:lnTo>
                  <a:pt x="3301" y="315"/>
                </a:lnTo>
                <a:lnTo>
                  <a:pt x="3323" y="315"/>
                </a:lnTo>
                <a:lnTo>
                  <a:pt x="3352" y="315"/>
                </a:lnTo>
                <a:lnTo>
                  <a:pt x="3374" y="315"/>
                </a:lnTo>
                <a:lnTo>
                  <a:pt x="3396" y="315"/>
                </a:lnTo>
                <a:lnTo>
                  <a:pt x="3418" y="315"/>
                </a:lnTo>
                <a:lnTo>
                  <a:pt x="3440" y="315"/>
                </a:lnTo>
                <a:lnTo>
                  <a:pt x="3469" y="315"/>
                </a:lnTo>
                <a:lnTo>
                  <a:pt x="3498" y="315"/>
                </a:lnTo>
                <a:lnTo>
                  <a:pt x="3520" y="315"/>
                </a:lnTo>
                <a:lnTo>
                  <a:pt x="3542" y="315"/>
                </a:lnTo>
                <a:lnTo>
                  <a:pt x="3564" y="315"/>
                </a:lnTo>
                <a:lnTo>
                  <a:pt x="3586" y="315"/>
                </a:lnTo>
                <a:lnTo>
                  <a:pt x="3608" y="315"/>
                </a:lnTo>
                <a:lnTo>
                  <a:pt x="3630" y="315"/>
                </a:lnTo>
                <a:lnTo>
                  <a:pt x="3623" y="315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00240" y="4478400"/>
            <a:ext cx="5391000" cy="257040"/>
          </a:xfrm>
          <a:custGeom>
            <a:avLst/>
            <a:gdLst/>
            <a:ahLst/>
            <a:rect l="l" t="t" r="r" b="b"/>
            <a:pathLst>
              <a:path w="3396" h="162">
                <a:moveTo>
                  <a:pt x="0" y="95"/>
                </a:moveTo>
                <a:lnTo>
                  <a:pt x="22" y="65"/>
                </a:lnTo>
                <a:lnTo>
                  <a:pt x="44" y="58"/>
                </a:lnTo>
                <a:lnTo>
                  <a:pt x="66" y="43"/>
                </a:lnTo>
                <a:lnTo>
                  <a:pt x="88" y="29"/>
                </a:lnTo>
                <a:lnTo>
                  <a:pt x="110" y="14"/>
                </a:lnTo>
                <a:lnTo>
                  <a:pt x="132" y="7"/>
                </a:lnTo>
                <a:lnTo>
                  <a:pt x="154" y="0"/>
                </a:lnTo>
                <a:lnTo>
                  <a:pt x="176" y="0"/>
                </a:lnTo>
                <a:lnTo>
                  <a:pt x="198" y="0"/>
                </a:lnTo>
                <a:lnTo>
                  <a:pt x="219" y="0"/>
                </a:lnTo>
                <a:lnTo>
                  <a:pt x="241" y="0"/>
                </a:lnTo>
                <a:lnTo>
                  <a:pt x="263" y="0"/>
                </a:lnTo>
                <a:lnTo>
                  <a:pt x="285" y="7"/>
                </a:lnTo>
                <a:lnTo>
                  <a:pt x="307" y="14"/>
                </a:lnTo>
                <a:lnTo>
                  <a:pt x="329" y="14"/>
                </a:lnTo>
                <a:lnTo>
                  <a:pt x="351" y="29"/>
                </a:lnTo>
                <a:lnTo>
                  <a:pt x="373" y="36"/>
                </a:lnTo>
                <a:lnTo>
                  <a:pt x="395" y="51"/>
                </a:lnTo>
                <a:lnTo>
                  <a:pt x="417" y="58"/>
                </a:lnTo>
                <a:lnTo>
                  <a:pt x="439" y="73"/>
                </a:lnTo>
                <a:lnTo>
                  <a:pt x="461" y="87"/>
                </a:lnTo>
                <a:lnTo>
                  <a:pt x="483" y="102"/>
                </a:lnTo>
                <a:lnTo>
                  <a:pt x="505" y="102"/>
                </a:lnTo>
                <a:lnTo>
                  <a:pt x="527" y="102"/>
                </a:lnTo>
                <a:lnTo>
                  <a:pt x="549" y="102"/>
                </a:lnTo>
                <a:lnTo>
                  <a:pt x="571" y="102"/>
                </a:lnTo>
                <a:lnTo>
                  <a:pt x="593" y="102"/>
                </a:lnTo>
                <a:lnTo>
                  <a:pt x="615" y="95"/>
                </a:lnTo>
                <a:lnTo>
                  <a:pt x="637" y="87"/>
                </a:lnTo>
                <a:lnTo>
                  <a:pt x="659" y="80"/>
                </a:lnTo>
                <a:lnTo>
                  <a:pt x="680" y="73"/>
                </a:lnTo>
                <a:lnTo>
                  <a:pt x="702" y="58"/>
                </a:lnTo>
                <a:lnTo>
                  <a:pt x="724" y="51"/>
                </a:lnTo>
                <a:lnTo>
                  <a:pt x="746" y="43"/>
                </a:lnTo>
                <a:lnTo>
                  <a:pt x="768" y="36"/>
                </a:lnTo>
                <a:lnTo>
                  <a:pt x="790" y="29"/>
                </a:lnTo>
                <a:lnTo>
                  <a:pt x="820" y="14"/>
                </a:lnTo>
                <a:lnTo>
                  <a:pt x="841" y="7"/>
                </a:lnTo>
                <a:lnTo>
                  <a:pt x="863" y="0"/>
                </a:lnTo>
                <a:lnTo>
                  <a:pt x="885" y="0"/>
                </a:lnTo>
                <a:lnTo>
                  <a:pt x="907" y="0"/>
                </a:lnTo>
                <a:lnTo>
                  <a:pt x="929" y="0"/>
                </a:lnTo>
                <a:lnTo>
                  <a:pt x="951" y="0"/>
                </a:lnTo>
                <a:lnTo>
                  <a:pt x="981" y="7"/>
                </a:lnTo>
                <a:lnTo>
                  <a:pt x="1002" y="7"/>
                </a:lnTo>
                <a:lnTo>
                  <a:pt x="1024" y="14"/>
                </a:lnTo>
                <a:lnTo>
                  <a:pt x="1046" y="22"/>
                </a:lnTo>
                <a:lnTo>
                  <a:pt x="1068" y="29"/>
                </a:lnTo>
                <a:lnTo>
                  <a:pt x="1090" y="36"/>
                </a:lnTo>
                <a:lnTo>
                  <a:pt x="1112" y="43"/>
                </a:lnTo>
                <a:lnTo>
                  <a:pt x="1134" y="58"/>
                </a:lnTo>
                <a:lnTo>
                  <a:pt x="1156" y="65"/>
                </a:lnTo>
                <a:lnTo>
                  <a:pt x="1178" y="73"/>
                </a:lnTo>
                <a:lnTo>
                  <a:pt x="1200" y="87"/>
                </a:lnTo>
                <a:lnTo>
                  <a:pt x="1222" y="87"/>
                </a:lnTo>
                <a:lnTo>
                  <a:pt x="1244" y="95"/>
                </a:lnTo>
                <a:lnTo>
                  <a:pt x="1266" y="102"/>
                </a:lnTo>
                <a:lnTo>
                  <a:pt x="1288" y="102"/>
                </a:lnTo>
                <a:lnTo>
                  <a:pt x="1310" y="102"/>
                </a:lnTo>
                <a:lnTo>
                  <a:pt x="1332" y="102"/>
                </a:lnTo>
                <a:lnTo>
                  <a:pt x="1354" y="95"/>
                </a:lnTo>
                <a:lnTo>
                  <a:pt x="1376" y="87"/>
                </a:lnTo>
                <a:lnTo>
                  <a:pt x="1398" y="73"/>
                </a:lnTo>
                <a:lnTo>
                  <a:pt x="1420" y="58"/>
                </a:lnTo>
                <a:lnTo>
                  <a:pt x="1442" y="51"/>
                </a:lnTo>
                <a:lnTo>
                  <a:pt x="1463" y="43"/>
                </a:lnTo>
                <a:lnTo>
                  <a:pt x="1485" y="29"/>
                </a:lnTo>
                <a:lnTo>
                  <a:pt x="1507" y="29"/>
                </a:lnTo>
                <a:lnTo>
                  <a:pt x="1529" y="22"/>
                </a:lnTo>
                <a:lnTo>
                  <a:pt x="1551" y="14"/>
                </a:lnTo>
                <a:lnTo>
                  <a:pt x="1573" y="7"/>
                </a:lnTo>
                <a:lnTo>
                  <a:pt x="1595" y="7"/>
                </a:lnTo>
                <a:lnTo>
                  <a:pt x="1617" y="0"/>
                </a:lnTo>
                <a:lnTo>
                  <a:pt x="1639" y="0"/>
                </a:lnTo>
                <a:lnTo>
                  <a:pt x="1661" y="0"/>
                </a:lnTo>
                <a:lnTo>
                  <a:pt x="1683" y="0"/>
                </a:lnTo>
                <a:lnTo>
                  <a:pt x="1705" y="7"/>
                </a:lnTo>
                <a:lnTo>
                  <a:pt x="1727" y="7"/>
                </a:lnTo>
                <a:lnTo>
                  <a:pt x="1749" y="14"/>
                </a:lnTo>
                <a:lnTo>
                  <a:pt x="1771" y="29"/>
                </a:lnTo>
                <a:lnTo>
                  <a:pt x="1793" y="29"/>
                </a:lnTo>
                <a:lnTo>
                  <a:pt x="1815" y="36"/>
                </a:lnTo>
                <a:lnTo>
                  <a:pt x="1837" y="43"/>
                </a:lnTo>
                <a:lnTo>
                  <a:pt x="1859" y="43"/>
                </a:lnTo>
                <a:lnTo>
                  <a:pt x="1888" y="51"/>
                </a:lnTo>
                <a:lnTo>
                  <a:pt x="1910" y="58"/>
                </a:lnTo>
                <a:lnTo>
                  <a:pt x="1939" y="65"/>
                </a:lnTo>
                <a:lnTo>
                  <a:pt x="1961" y="65"/>
                </a:lnTo>
                <a:lnTo>
                  <a:pt x="1983" y="73"/>
                </a:lnTo>
                <a:lnTo>
                  <a:pt x="2005" y="80"/>
                </a:lnTo>
                <a:lnTo>
                  <a:pt x="2027" y="80"/>
                </a:lnTo>
                <a:lnTo>
                  <a:pt x="2049" y="80"/>
                </a:lnTo>
                <a:lnTo>
                  <a:pt x="2071" y="87"/>
                </a:lnTo>
                <a:lnTo>
                  <a:pt x="2093" y="80"/>
                </a:lnTo>
                <a:lnTo>
                  <a:pt x="2115" y="73"/>
                </a:lnTo>
                <a:lnTo>
                  <a:pt x="2137" y="58"/>
                </a:lnTo>
                <a:lnTo>
                  <a:pt x="2159" y="43"/>
                </a:lnTo>
                <a:lnTo>
                  <a:pt x="2181" y="36"/>
                </a:lnTo>
                <a:lnTo>
                  <a:pt x="2203" y="29"/>
                </a:lnTo>
                <a:lnTo>
                  <a:pt x="2225" y="14"/>
                </a:lnTo>
                <a:lnTo>
                  <a:pt x="2246" y="14"/>
                </a:lnTo>
                <a:lnTo>
                  <a:pt x="2268" y="14"/>
                </a:lnTo>
                <a:lnTo>
                  <a:pt x="2290" y="7"/>
                </a:lnTo>
                <a:lnTo>
                  <a:pt x="2312" y="7"/>
                </a:lnTo>
                <a:lnTo>
                  <a:pt x="2334" y="7"/>
                </a:lnTo>
                <a:lnTo>
                  <a:pt x="2356" y="7"/>
                </a:lnTo>
                <a:lnTo>
                  <a:pt x="2378" y="7"/>
                </a:lnTo>
                <a:lnTo>
                  <a:pt x="2407" y="14"/>
                </a:lnTo>
                <a:lnTo>
                  <a:pt x="2429" y="22"/>
                </a:lnTo>
                <a:lnTo>
                  <a:pt x="2451" y="29"/>
                </a:lnTo>
                <a:lnTo>
                  <a:pt x="2473" y="36"/>
                </a:lnTo>
                <a:lnTo>
                  <a:pt x="2495" y="43"/>
                </a:lnTo>
                <a:lnTo>
                  <a:pt x="2517" y="65"/>
                </a:lnTo>
                <a:lnTo>
                  <a:pt x="2539" y="73"/>
                </a:lnTo>
                <a:lnTo>
                  <a:pt x="2561" y="87"/>
                </a:lnTo>
                <a:lnTo>
                  <a:pt x="2583" y="87"/>
                </a:lnTo>
                <a:lnTo>
                  <a:pt x="2605" y="102"/>
                </a:lnTo>
                <a:lnTo>
                  <a:pt x="2627" y="109"/>
                </a:lnTo>
                <a:lnTo>
                  <a:pt x="2649" y="117"/>
                </a:lnTo>
                <a:lnTo>
                  <a:pt x="2671" y="124"/>
                </a:lnTo>
                <a:lnTo>
                  <a:pt x="2693" y="124"/>
                </a:lnTo>
                <a:lnTo>
                  <a:pt x="2715" y="124"/>
                </a:lnTo>
                <a:lnTo>
                  <a:pt x="2737" y="117"/>
                </a:lnTo>
                <a:lnTo>
                  <a:pt x="2759" y="117"/>
                </a:lnTo>
                <a:lnTo>
                  <a:pt x="2781" y="102"/>
                </a:lnTo>
                <a:lnTo>
                  <a:pt x="2803" y="87"/>
                </a:lnTo>
                <a:lnTo>
                  <a:pt x="2817" y="65"/>
                </a:lnTo>
                <a:lnTo>
                  <a:pt x="2832" y="43"/>
                </a:lnTo>
                <a:lnTo>
                  <a:pt x="2854" y="22"/>
                </a:lnTo>
                <a:lnTo>
                  <a:pt x="2876" y="14"/>
                </a:lnTo>
                <a:lnTo>
                  <a:pt x="2898" y="14"/>
                </a:lnTo>
                <a:lnTo>
                  <a:pt x="2920" y="7"/>
                </a:lnTo>
                <a:lnTo>
                  <a:pt x="2942" y="7"/>
                </a:lnTo>
                <a:lnTo>
                  <a:pt x="2971" y="7"/>
                </a:lnTo>
                <a:lnTo>
                  <a:pt x="3000" y="7"/>
                </a:lnTo>
                <a:lnTo>
                  <a:pt x="3029" y="7"/>
                </a:lnTo>
                <a:lnTo>
                  <a:pt x="3059" y="7"/>
                </a:lnTo>
                <a:lnTo>
                  <a:pt x="3081" y="14"/>
                </a:lnTo>
                <a:lnTo>
                  <a:pt x="3103" y="14"/>
                </a:lnTo>
                <a:lnTo>
                  <a:pt x="3125" y="22"/>
                </a:lnTo>
                <a:lnTo>
                  <a:pt x="3147" y="29"/>
                </a:lnTo>
                <a:lnTo>
                  <a:pt x="3169" y="43"/>
                </a:lnTo>
                <a:lnTo>
                  <a:pt x="3190" y="51"/>
                </a:lnTo>
                <a:lnTo>
                  <a:pt x="3212" y="65"/>
                </a:lnTo>
                <a:lnTo>
                  <a:pt x="3234" y="80"/>
                </a:lnTo>
                <a:lnTo>
                  <a:pt x="3256" y="95"/>
                </a:lnTo>
                <a:lnTo>
                  <a:pt x="3278" y="109"/>
                </a:lnTo>
                <a:lnTo>
                  <a:pt x="3300" y="117"/>
                </a:lnTo>
                <a:lnTo>
                  <a:pt x="3322" y="131"/>
                </a:lnTo>
                <a:lnTo>
                  <a:pt x="3344" y="146"/>
                </a:lnTo>
                <a:lnTo>
                  <a:pt x="3366" y="153"/>
                </a:lnTo>
                <a:lnTo>
                  <a:pt x="3388" y="153"/>
                </a:lnTo>
                <a:lnTo>
                  <a:pt x="3395" y="161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4160" y="4906800"/>
            <a:ext cx="5461200" cy="560520"/>
          </a:xfrm>
          <a:custGeom>
            <a:avLst/>
            <a:gdLst/>
            <a:ahLst/>
            <a:rect l="l" t="t" r="r" b="b"/>
            <a:pathLst>
              <a:path w="3440" h="353">
                <a:moveTo>
                  <a:pt x="0" y="300"/>
                </a:moveTo>
                <a:lnTo>
                  <a:pt x="29" y="278"/>
                </a:lnTo>
                <a:lnTo>
                  <a:pt x="51" y="264"/>
                </a:lnTo>
                <a:lnTo>
                  <a:pt x="73" y="257"/>
                </a:lnTo>
                <a:lnTo>
                  <a:pt x="95" y="249"/>
                </a:lnTo>
                <a:lnTo>
                  <a:pt x="117" y="235"/>
                </a:lnTo>
                <a:lnTo>
                  <a:pt x="139" y="227"/>
                </a:lnTo>
                <a:lnTo>
                  <a:pt x="161" y="220"/>
                </a:lnTo>
                <a:lnTo>
                  <a:pt x="183" y="220"/>
                </a:lnTo>
                <a:lnTo>
                  <a:pt x="205" y="220"/>
                </a:lnTo>
                <a:lnTo>
                  <a:pt x="227" y="220"/>
                </a:lnTo>
                <a:lnTo>
                  <a:pt x="248" y="213"/>
                </a:lnTo>
                <a:lnTo>
                  <a:pt x="270" y="213"/>
                </a:lnTo>
                <a:lnTo>
                  <a:pt x="292" y="213"/>
                </a:lnTo>
                <a:lnTo>
                  <a:pt x="314" y="220"/>
                </a:lnTo>
                <a:lnTo>
                  <a:pt x="336" y="220"/>
                </a:lnTo>
                <a:lnTo>
                  <a:pt x="358" y="227"/>
                </a:lnTo>
                <a:lnTo>
                  <a:pt x="380" y="235"/>
                </a:lnTo>
                <a:lnTo>
                  <a:pt x="402" y="242"/>
                </a:lnTo>
                <a:lnTo>
                  <a:pt x="424" y="249"/>
                </a:lnTo>
                <a:lnTo>
                  <a:pt x="446" y="257"/>
                </a:lnTo>
                <a:lnTo>
                  <a:pt x="468" y="264"/>
                </a:lnTo>
                <a:lnTo>
                  <a:pt x="490" y="278"/>
                </a:lnTo>
                <a:lnTo>
                  <a:pt x="512" y="278"/>
                </a:lnTo>
                <a:lnTo>
                  <a:pt x="534" y="286"/>
                </a:lnTo>
                <a:lnTo>
                  <a:pt x="556" y="286"/>
                </a:lnTo>
                <a:lnTo>
                  <a:pt x="578" y="278"/>
                </a:lnTo>
                <a:lnTo>
                  <a:pt x="600" y="271"/>
                </a:lnTo>
                <a:lnTo>
                  <a:pt x="622" y="257"/>
                </a:lnTo>
                <a:lnTo>
                  <a:pt x="644" y="249"/>
                </a:lnTo>
                <a:lnTo>
                  <a:pt x="666" y="242"/>
                </a:lnTo>
                <a:lnTo>
                  <a:pt x="688" y="235"/>
                </a:lnTo>
                <a:lnTo>
                  <a:pt x="709" y="227"/>
                </a:lnTo>
                <a:lnTo>
                  <a:pt x="731" y="220"/>
                </a:lnTo>
                <a:lnTo>
                  <a:pt x="753" y="213"/>
                </a:lnTo>
                <a:lnTo>
                  <a:pt x="775" y="205"/>
                </a:lnTo>
                <a:lnTo>
                  <a:pt x="797" y="205"/>
                </a:lnTo>
                <a:lnTo>
                  <a:pt x="819" y="205"/>
                </a:lnTo>
                <a:lnTo>
                  <a:pt x="841" y="205"/>
                </a:lnTo>
                <a:lnTo>
                  <a:pt x="863" y="205"/>
                </a:lnTo>
                <a:lnTo>
                  <a:pt x="892" y="205"/>
                </a:lnTo>
                <a:lnTo>
                  <a:pt x="914" y="205"/>
                </a:lnTo>
                <a:lnTo>
                  <a:pt x="936" y="205"/>
                </a:lnTo>
                <a:lnTo>
                  <a:pt x="958" y="213"/>
                </a:lnTo>
                <a:lnTo>
                  <a:pt x="980" y="220"/>
                </a:lnTo>
                <a:lnTo>
                  <a:pt x="1002" y="235"/>
                </a:lnTo>
                <a:lnTo>
                  <a:pt x="1024" y="257"/>
                </a:lnTo>
                <a:lnTo>
                  <a:pt x="1046" y="264"/>
                </a:lnTo>
                <a:lnTo>
                  <a:pt x="1068" y="271"/>
                </a:lnTo>
                <a:lnTo>
                  <a:pt x="1090" y="278"/>
                </a:lnTo>
                <a:lnTo>
                  <a:pt x="1112" y="278"/>
                </a:lnTo>
                <a:lnTo>
                  <a:pt x="1134" y="278"/>
                </a:lnTo>
                <a:lnTo>
                  <a:pt x="1156" y="278"/>
                </a:lnTo>
                <a:lnTo>
                  <a:pt x="1178" y="271"/>
                </a:lnTo>
                <a:lnTo>
                  <a:pt x="1200" y="264"/>
                </a:lnTo>
                <a:lnTo>
                  <a:pt x="1222" y="257"/>
                </a:lnTo>
                <a:lnTo>
                  <a:pt x="1244" y="249"/>
                </a:lnTo>
                <a:lnTo>
                  <a:pt x="1273" y="235"/>
                </a:lnTo>
                <a:lnTo>
                  <a:pt x="1295" y="227"/>
                </a:lnTo>
                <a:lnTo>
                  <a:pt x="1317" y="220"/>
                </a:lnTo>
                <a:lnTo>
                  <a:pt x="1339" y="213"/>
                </a:lnTo>
                <a:lnTo>
                  <a:pt x="1361" y="213"/>
                </a:lnTo>
                <a:lnTo>
                  <a:pt x="1383" y="205"/>
                </a:lnTo>
                <a:lnTo>
                  <a:pt x="1405" y="205"/>
                </a:lnTo>
                <a:lnTo>
                  <a:pt x="1427" y="205"/>
                </a:lnTo>
                <a:lnTo>
                  <a:pt x="1449" y="205"/>
                </a:lnTo>
                <a:lnTo>
                  <a:pt x="1471" y="205"/>
                </a:lnTo>
                <a:lnTo>
                  <a:pt x="1492" y="205"/>
                </a:lnTo>
                <a:lnTo>
                  <a:pt x="1514" y="213"/>
                </a:lnTo>
                <a:lnTo>
                  <a:pt x="1536" y="227"/>
                </a:lnTo>
                <a:lnTo>
                  <a:pt x="1551" y="249"/>
                </a:lnTo>
                <a:lnTo>
                  <a:pt x="1566" y="271"/>
                </a:lnTo>
                <a:lnTo>
                  <a:pt x="1580" y="293"/>
                </a:lnTo>
                <a:lnTo>
                  <a:pt x="1602" y="300"/>
                </a:lnTo>
                <a:lnTo>
                  <a:pt x="1624" y="300"/>
                </a:lnTo>
                <a:lnTo>
                  <a:pt x="1646" y="300"/>
                </a:lnTo>
                <a:lnTo>
                  <a:pt x="1668" y="293"/>
                </a:lnTo>
                <a:lnTo>
                  <a:pt x="1690" y="278"/>
                </a:lnTo>
                <a:lnTo>
                  <a:pt x="1712" y="271"/>
                </a:lnTo>
                <a:lnTo>
                  <a:pt x="1734" y="271"/>
                </a:lnTo>
                <a:lnTo>
                  <a:pt x="1749" y="249"/>
                </a:lnTo>
                <a:lnTo>
                  <a:pt x="1771" y="235"/>
                </a:lnTo>
                <a:lnTo>
                  <a:pt x="1793" y="220"/>
                </a:lnTo>
                <a:lnTo>
                  <a:pt x="1807" y="198"/>
                </a:lnTo>
                <a:lnTo>
                  <a:pt x="1829" y="183"/>
                </a:lnTo>
                <a:lnTo>
                  <a:pt x="1844" y="161"/>
                </a:lnTo>
                <a:lnTo>
                  <a:pt x="1866" y="147"/>
                </a:lnTo>
                <a:lnTo>
                  <a:pt x="1888" y="139"/>
                </a:lnTo>
                <a:lnTo>
                  <a:pt x="1910" y="132"/>
                </a:lnTo>
                <a:lnTo>
                  <a:pt x="1932" y="117"/>
                </a:lnTo>
                <a:lnTo>
                  <a:pt x="1954" y="117"/>
                </a:lnTo>
                <a:lnTo>
                  <a:pt x="1975" y="110"/>
                </a:lnTo>
                <a:lnTo>
                  <a:pt x="1997" y="103"/>
                </a:lnTo>
                <a:lnTo>
                  <a:pt x="2019" y="103"/>
                </a:lnTo>
                <a:lnTo>
                  <a:pt x="2049" y="96"/>
                </a:lnTo>
                <a:lnTo>
                  <a:pt x="2071" y="88"/>
                </a:lnTo>
                <a:lnTo>
                  <a:pt x="2100" y="74"/>
                </a:lnTo>
                <a:lnTo>
                  <a:pt x="2122" y="66"/>
                </a:lnTo>
                <a:lnTo>
                  <a:pt x="2144" y="59"/>
                </a:lnTo>
                <a:lnTo>
                  <a:pt x="2166" y="52"/>
                </a:lnTo>
                <a:lnTo>
                  <a:pt x="2188" y="44"/>
                </a:lnTo>
                <a:lnTo>
                  <a:pt x="2210" y="37"/>
                </a:lnTo>
                <a:lnTo>
                  <a:pt x="2239" y="30"/>
                </a:lnTo>
                <a:lnTo>
                  <a:pt x="2261" y="22"/>
                </a:lnTo>
                <a:lnTo>
                  <a:pt x="2283" y="22"/>
                </a:lnTo>
                <a:lnTo>
                  <a:pt x="2305" y="22"/>
                </a:lnTo>
                <a:lnTo>
                  <a:pt x="2334" y="15"/>
                </a:lnTo>
                <a:lnTo>
                  <a:pt x="2363" y="15"/>
                </a:lnTo>
                <a:lnTo>
                  <a:pt x="2393" y="15"/>
                </a:lnTo>
                <a:lnTo>
                  <a:pt x="2415" y="15"/>
                </a:lnTo>
                <a:lnTo>
                  <a:pt x="2444" y="8"/>
                </a:lnTo>
                <a:lnTo>
                  <a:pt x="2473" y="8"/>
                </a:lnTo>
                <a:lnTo>
                  <a:pt x="2502" y="0"/>
                </a:lnTo>
                <a:lnTo>
                  <a:pt x="2532" y="0"/>
                </a:lnTo>
                <a:lnTo>
                  <a:pt x="2554" y="0"/>
                </a:lnTo>
                <a:lnTo>
                  <a:pt x="2583" y="0"/>
                </a:lnTo>
                <a:lnTo>
                  <a:pt x="2605" y="0"/>
                </a:lnTo>
                <a:lnTo>
                  <a:pt x="2627" y="0"/>
                </a:lnTo>
                <a:lnTo>
                  <a:pt x="2649" y="8"/>
                </a:lnTo>
                <a:lnTo>
                  <a:pt x="2678" y="8"/>
                </a:lnTo>
                <a:lnTo>
                  <a:pt x="2707" y="8"/>
                </a:lnTo>
                <a:lnTo>
                  <a:pt x="2737" y="8"/>
                </a:lnTo>
                <a:lnTo>
                  <a:pt x="2766" y="15"/>
                </a:lnTo>
                <a:lnTo>
                  <a:pt x="2795" y="15"/>
                </a:lnTo>
                <a:lnTo>
                  <a:pt x="2817" y="15"/>
                </a:lnTo>
                <a:lnTo>
                  <a:pt x="2839" y="22"/>
                </a:lnTo>
                <a:lnTo>
                  <a:pt x="2861" y="30"/>
                </a:lnTo>
                <a:lnTo>
                  <a:pt x="2883" y="44"/>
                </a:lnTo>
                <a:lnTo>
                  <a:pt x="2912" y="59"/>
                </a:lnTo>
                <a:lnTo>
                  <a:pt x="2941" y="74"/>
                </a:lnTo>
                <a:lnTo>
                  <a:pt x="2963" y="88"/>
                </a:lnTo>
                <a:lnTo>
                  <a:pt x="2993" y="103"/>
                </a:lnTo>
                <a:lnTo>
                  <a:pt x="3015" y="117"/>
                </a:lnTo>
                <a:lnTo>
                  <a:pt x="3037" y="125"/>
                </a:lnTo>
                <a:lnTo>
                  <a:pt x="3058" y="132"/>
                </a:lnTo>
                <a:lnTo>
                  <a:pt x="3088" y="154"/>
                </a:lnTo>
                <a:lnTo>
                  <a:pt x="3110" y="161"/>
                </a:lnTo>
                <a:lnTo>
                  <a:pt x="3132" y="176"/>
                </a:lnTo>
                <a:lnTo>
                  <a:pt x="3161" y="191"/>
                </a:lnTo>
                <a:lnTo>
                  <a:pt x="3183" y="198"/>
                </a:lnTo>
                <a:lnTo>
                  <a:pt x="3205" y="213"/>
                </a:lnTo>
                <a:lnTo>
                  <a:pt x="3234" y="235"/>
                </a:lnTo>
                <a:lnTo>
                  <a:pt x="3256" y="242"/>
                </a:lnTo>
                <a:lnTo>
                  <a:pt x="3285" y="257"/>
                </a:lnTo>
                <a:lnTo>
                  <a:pt x="3307" y="271"/>
                </a:lnTo>
                <a:lnTo>
                  <a:pt x="3322" y="293"/>
                </a:lnTo>
                <a:lnTo>
                  <a:pt x="3344" y="308"/>
                </a:lnTo>
                <a:lnTo>
                  <a:pt x="3366" y="322"/>
                </a:lnTo>
                <a:lnTo>
                  <a:pt x="3388" y="337"/>
                </a:lnTo>
                <a:lnTo>
                  <a:pt x="3410" y="344"/>
                </a:lnTo>
                <a:lnTo>
                  <a:pt x="3432" y="352"/>
                </a:lnTo>
                <a:lnTo>
                  <a:pt x="3439" y="352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9640" y="984240"/>
            <a:ext cx="780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560" y="1728720"/>
            <a:ext cx="7534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7680" y="2378160"/>
            <a:ext cx="1000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Architecture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13760" y="3133800"/>
            <a:ext cx="6606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88720" y="4529160"/>
            <a:ext cx="909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76840" y="5295960"/>
            <a:ext cx="6865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04960" y="3408480"/>
            <a:ext cx="5403960" cy="744480"/>
          </a:xfrm>
          <a:custGeom>
            <a:avLst/>
            <a:gdLst/>
            <a:ahLst/>
            <a:rect l="l" t="t" r="r" b="b"/>
            <a:pathLst>
              <a:path w="3404" h="469">
                <a:moveTo>
                  <a:pt x="0" y="468"/>
                </a:moveTo>
                <a:lnTo>
                  <a:pt x="20" y="435"/>
                </a:lnTo>
                <a:lnTo>
                  <a:pt x="40" y="418"/>
                </a:lnTo>
                <a:lnTo>
                  <a:pt x="61" y="402"/>
                </a:lnTo>
                <a:lnTo>
                  <a:pt x="81" y="393"/>
                </a:lnTo>
                <a:lnTo>
                  <a:pt x="102" y="378"/>
                </a:lnTo>
                <a:lnTo>
                  <a:pt x="122" y="369"/>
                </a:lnTo>
                <a:lnTo>
                  <a:pt x="143" y="353"/>
                </a:lnTo>
                <a:lnTo>
                  <a:pt x="170" y="336"/>
                </a:lnTo>
                <a:lnTo>
                  <a:pt x="190" y="328"/>
                </a:lnTo>
                <a:lnTo>
                  <a:pt x="211" y="312"/>
                </a:lnTo>
                <a:lnTo>
                  <a:pt x="231" y="295"/>
                </a:lnTo>
                <a:lnTo>
                  <a:pt x="252" y="287"/>
                </a:lnTo>
                <a:lnTo>
                  <a:pt x="272" y="279"/>
                </a:lnTo>
                <a:lnTo>
                  <a:pt x="292" y="254"/>
                </a:lnTo>
                <a:lnTo>
                  <a:pt x="313" y="237"/>
                </a:lnTo>
                <a:lnTo>
                  <a:pt x="333" y="230"/>
                </a:lnTo>
                <a:lnTo>
                  <a:pt x="354" y="222"/>
                </a:lnTo>
                <a:lnTo>
                  <a:pt x="374" y="205"/>
                </a:lnTo>
                <a:lnTo>
                  <a:pt x="395" y="205"/>
                </a:lnTo>
                <a:lnTo>
                  <a:pt x="408" y="180"/>
                </a:lnTo>
                <a:lnTo>
                  <a:pt x="428" y="180"/>
                </a:lnTo>
                <a:lnTo>
                  <a:pt x="455" y="172"/>
                </a:lnTo>
                <a:lnTo>
                  <a:pt x="476" y="163"/>
                </a:lnTo>
                <a:lnTo>
                  <a:pt x="496" y="163"/>
                </a:lnTo>
                <a:lnTo>
                  <a:pt x="517" y="156"/>
                </a:lnTo>
                <a:lnTo>
                  <a:pt x="537" y="148"/>
                </a:lnTo>
                <a:lnTo>
                  <a:pt x="558" y="139"/>
                </a:lnTo>
                <a:lnTo>
                  <a:pt x="578" y="131"/>
                </a:lnTo>
                <a:lnTo>
                  <a:pt x="605" y="123"/>
                </a:lnTo>
                <a:lnTo>
                  <a:pt x="633" y="114"/>
                </a:lnTo>
                <a:lnTo>
                  <a:pt x="660" y="106"/>
                </a:lnTo>
                <a:lnTo>
                  <a:pt x="680" y="98"/>
                </a:lnTo>
                <a:lnTo>
                  <a:pt x="701" y="98"/>
                </a:lnTo>
                <a:lnTo>
                  <a:pt x="721" y="98"/>
                </a:lnTo>
                <a:lnTo>
                  <a:pt x="742" y="89"/>
                </a:lnTo>
                <a:lnTo>
                  <a:pt x="769" y="81"/>
                </a:lnTo>
                <a:lnTo>
                  <a:pt x="789" y="81"/>
                </a:lnTo>
                <a:lnTo>
                  <a:pt x="810" y="74"/>
                </a:lnTo>
                <a:lnTo>
                  <a:pt x="830" y="74"/>
                </a:lnTo>
                <a:lnTo>
                  <a:pt x="850" y="74"/>
                </a:lnTo>
                <a:lnTo>
                  <a:pt x="871" y="74"/>
                </a:lnTo>
                <a:lnTo>
                  <a:pt x="891" y="74"/>
                </a:lnTo>
                <a:lnTo>
                  <a:pt x="912" y="66"/>
                </a:lnTo>
                <a:lnTo>
                  <a:pt x="932" y="66"/>
                </a:lnTo>
                <a:lnTo>
                  <a:pt x="953" y="66"/>
                </a:lnTo>
                <a:lnTo>
                  <a:pt x="973" y="66"/>
                </a:lnTo>
                <a:lnTo>
                  <a:pt x="994" y="57"/>
                </a:lnTo>
                <a:lnTo>
                  <a:pt x="1013" y="57"/>
                </a:lnTo>
                <a:lnTo>
                  <a:pt x="1034" y="57"/>
                </a:lnTo>
                <a:lnTo>
                  <a:pt x="1054" y="49"/>
                </a:lnTo>
                <a:lnTo>
                  <a:pt x="1075" y="49"/>
                </a:lnTo>
                <a:lnTo>
                  <a:pt x="1095" y="49"/>
                </a:lnTo>
                <a:lnTo>
                  <a:pt x="1116" y="49"/>
                </a:lnTo>
                <a:lnTo>
                  <a:pt x="1136" y="49"/>
                </a:lnTo>
                <a:lnTo>
                  <a:pt x="1156" y="49"/>
                </a:lnTo>
                <a:lnTo>
                  <a:pt x="1177" y="41"/>
                </a:lnTo>
                <a:lnTo>
                  <a:pt x="1197" y="32"/>
                </a:lnTo>
                <a:lnTo>
                  <a:pt x="1218" y="32"/>
                </a:lnTo>
                <a:lnTo>
                  <a:pt x="1245" y="24"/>
                </a:lnTo>
                <a:lnTo>
                  <a:pt x="1265" y="16"/>
                </a:lnTo>
                <a:lnTo>
                  <a:pt x="1286" y="16"/>
                </a:lnTo>
                <a:lnTo>
                  <a:pt x="1313" y="16"/>
                </a:lnTo>
                <a:lnTo>
                  <a:pt x="1341" y="7"/>
                </a:lnTo>
                <a:lnTo>
                  <a:pt x="1368" y="7"/>
                </a:lnTo>
                <a:lnTo>
                  <a:pt x="1395" y="0"/>
                </a:lnTo>
                <a:lnTo>
                  <a:pt x="1415" y="0"/>
                </a:lnTo>
                <a:lnTo>
                  <a:pt x="1435" y="0"/>
                </a:lnTo>
                <a:lnTo>
                  <a:pt x="1462" y="0"/>
                </a:lnTo>
                <a:lnTo>
                  <a:pt x="1483" y="0"/>
                </a:lnTo>
                <a:lnTo>
                  <a:pt x="1511" y="0"/>
                </a:lnTo>
                <a:lnTo>
                  <a:pt x="1531" y="0"/>
                </a:lnTo>
                <a:lnTo>
                  <a:pt x="1552" y="0"/>
                </a:lnTo>
                <a:lnTo>
                  <a:pt x="1572" y="0"/>
                </a:lnTo>
                <a:lnTo>
                  <a:pt x="1592" y="0"/>
                </a:lnTo>
                <a:lnTo>
                  <a:pt x="1620" y="7"/>
                </a:lnTo>
                <a:lnTo>
                  <a:pt x="1640" y="7"/>
                </a:lnTo>
                <a:lnTo>
                  <a:pt x="1661" y="16"/>
                </a:lnTo>
                <a:lnTo>
                  <a:pt x="1688" y="24"/>
                </a:lnTo>
                <a:lnTo>
                  <a:pt x="1708" y="32"/>
                </a:lnTo>
                <a:lnTo>
                  <a:pt x="1728" y="41"/>
                </a:lnTo>
                <a:lnTo>
                  <a:pt x="1749" y="41"/>
                </a:lnTo>
                <a:lnTo>
                  <a:pt x="1776" y="49"/>
                </a:lnTo>
                <a:lnTo>
                  <a:pt x="1803" y="49"/>
                </a:lnTo>
                <a:lnTo>
                  <a:pt x="1844" y="57"/>
                </a:lnTo>
                <a:lnTo>
                  <a:pt x="1872" y="57"/>
                </a:lnTo>
                <a:lnTo>
                  <a:pt x="1899" y="57"/>
                </a:lnTo>
                <a:lnTo>
                  <a:pt x="1919" y="49"/>
                </a:lnTo>
                <a:lnTo>
                  <a:pt x="1940" y="49"/>
                </a:lnTo>
                <a:lnTo>
                  <a:pt x="1960" y="49"/>
                </a:lnTo>
                <a:lnTo>
                  <a:pt x="1980" y="49"/>
                </a:lnTo>
                <a:lnTo>
                  <a:pt x="2007" y="49"/>
                </a:lnTo>
                <a:lnTo>
                  <a:pt x="2028" y="49"/>
                </a:lnTo>
                <a:lnTo>
                  <a:pt x="2048" y="49"/>
                </a:lnTo>
                <a:lnTo>
                  <a:pt x="2069" y="41"/>
                </a:lnTo>
                <a:lnTo>
                  <a:pt x="2089" y="41"/>
                </a:lnTo>
                <a:lnTo>
                  <a:pt x="2110" y="41"/>
                </a:lnTo>
                <a:lnTo>
                  <a:pt x="2130" y="41"/>
                </a:lnTo>
                <a:lnTo>
                  <a:pt x="2151" y="41"/>
                </a:lnTo>
                <a:lnTo>
                  <a:pt x="2170" y="41"/>
                </a:lnTo>
                <a:lnTo>
                  <a:pt x="2191" y="41"/>
                </a:lnTo>
                <a:lnTo>
                  <a:pt x="2219" y="49"/>
                </a:lnTo>
                <a:lnTo>
                  <a:pt x="2239" y="49"/>
                </a:lnTo>
                <a:lnTo>
                  <a:pt x="2266" y="49"/>
                </a:lnTo>
                <a:lnTo>
                  <a:pt x="2286" y="49"/>
                </a:lnTo>
                <a:lnTo>
                  <a:pt x="2307" y="49"/>
                </a:lnTo>
                <a:lnTo>
                  <a:pt x="2327" y="49"/>
                </a:lnTo>
                <a:lnTo>
                  <a:pt x="2354" y="49"/>
                </a:lnTo>
                <a:lnTo>
                  <a:pt x="2389" y="57"/>
                </a:lnTo>
                <a:lnTo>
                  <a:pt x="2409" y="57"/>
                </a:lnTo>
                <a:lnTo>
                  <a:pt x="2430" y="66"/>
                </a:lnTo>
                <a:lnTo>
                  <a:pt x="2450" y="66"/>
                </a:lnTo>
                <a:lnTo>
                  <a:pt x="2470" y="74"/>
                </a:lnTo>
                <a:lnTo>
                  <a:pt x="2498" y="81"/>
                </a:lnTo>
                <a:lnTo>
                  <a:pt x="2518" y="89"/>
                </a:lnTo>
                <a:lnTo>
                  <a:pt x="2538" y="89"/>
                </a:lnTo>
                <a:lnTo>
                  <a:pt x="2559" y="98"/>
                </a:lnTo>
                <a:lnTo>
                  <a:pt x="2579" y="106"/>
                </a:lnTo>
                <a:lnTo>
                  <a:pt x="2600" y="106"/>
                </a:lnTo>
                <a:lnTo>
                  <a:pt x="2619" y="114"/>
                </a:lnTo>
                <a:lnTo>
                  <a:pt x="2640" y="114"/>
                </a:lnTo>
                <a:lnTo>
                  <a:pt x="2660" y="114"/>
                </a:lnTo>
                <a:lnTo>
                  <a:pt x="2688" y="123"/>
                </a:lnTo>
                <a:lnTo>
                  <a:pt x="2709" y="131"/>
                </a:lnTo>
                <a:lnTo>
                  <a:pt x="2729" y="131"/>
                </a:lnTo>
                <a:lnTo>
                  <a:pt x="2750" y="139"/>
                </a:lnTo>
                <a:lnTo>
                  <a:pt x="2769" y="148"/>
                </a:lnTo>
                <a:lnTo>
                  <a:pt x="2804" y="156"/>
                </a:lnTo>
                <a:lnTo>
                  <a:pt x="2831" y="163"/>
                </a:lnTo>
                <a:lnTo>
                  <a:pt x="2851" y="172"/>
                </a:lnTo>
                <a:lnTo>
                  <a:pt x="2879" y="188"/>
                </a:lnTo>
                <a:lnTo>
                  <a:pt x="2906" y="205"/>
                </a:lnTo>
                <a:lnTo>
                  <a:pt x="2933" y="213"/>
                </a:lnTo>
                <a:lnTo>
                  <a:pt x="2953" y="222"/>
                </a:lnTo>
                <a:lnTo>
                  <a:pt x="2980" y="237"/>
                </a:lnTo>
                <a:lnTo>
                  <a:pt x="3001" y="246"/>
                </a:lnTo>
                <a:lnTo>
                  <a:pt x="3021" y="254"/>
                </a:lnTo>
                <a:lnTo>
                  <a:pt x="3042" y="254"/>
                </a:lnTo>
                <a:lnTo>
                  <a:pt x="3062" y="262"/>
                </a:lnTo>
                <a:lnTo>
                  <a:pt x="3083" y="279"/>
                </a:lnTo>
                <a:lnTo>
                  <a:pt x="3103" y="287"/>
                </a:lnTo>
                <a:lnTo>
                  <a:pt x="3123" y="304"/>
                </a:lnTo>
                <a:lnTo>
                  <a:pt x="3144" y="312"/>
                </a:lnTo>
                <a:lnTo>
                  <a:pt x="3164" y="328"/>
                </a:lnTo>
                <a:lnTo>
                  <a:pt x="3191" y="344"/>
                </a:lnTo>
                <a:lnTo>
                  <a:pt x="3212" y="353"/>
                </a:lnTo>
                <a:lnTo>
                  <a:pt x="3232" y="361"/>
                </a:lnTo>
                <a:lnTo>
                  <a:pt x="3253" y="378"/>
                </a:lnTo>
                <a:lnTo>
                  <a:pt x="3273" y="386"/>
                </a:lnTo>
                <a:lnTo>
                  <a:pt x="3294" y="393"/>
                </a:lnTo>
                <a:lnTo>
                  <a:pt x="3314" y="402"/>
                </a:lnTo>
                <a:lnTo>
                  <a:pt x="3341" y="410"/>
                </a:lnTo>
                <a:lnTo>
                  <a:pt x="3362" y="418"/>
                </a:lnTo>
                <a:lnTo>
                  <a:pt x="3382" y="435"/>
                </a:lnTo>
                <a:lnTo>
                  <a:pt x="3403" y="443"/>
                </a:lnTo>
              </a:path>
            </a:pathLst>
          </a:custGeom>
          <a:noFill/>
          <a:ln cap="rnd" w="2556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040" y="3892680"/>
            <a:ext cx="12304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f0e3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1400" y="1247760"/>
            <a:ext cx="6865920" cy="1116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040" y="1946160"/>
            <a:ext cx="6865920" cy="1116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66680" y="2749680"/>
            <a:ext cx="6448680" cy="792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8720" y="3327480"/>
            <a:ext cx="5786640" cy="468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04960" y="4151160"/>
            <a:ext cx="5425920" cy="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4160" y="4768920"/>
            <a:ext cx="5426280" cy="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5960" y="5511960"/>
            <a:ext cx="5425920" cy="0"/>
          </a:xfrm>
          <a:prstGeom prst="line">
            <a:avLst/>
          </a:prstGeom>
          <a:ln w="255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61960" y="393840"/>
            <a:ext cx="90504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79600" y="395280"/>
            <a:ext cx="135900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1200" y="407880"/>
            <a:ext cx="275112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14920" y="406440"/>
            <a:ext cx="1905120" cy="5308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6640" y="411120"/>
            <a:ext cx="11102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18120" y="428760"/>
            <a:ext cx="1337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86960" y="449280"/>
            <a:ext cx="1465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02840" y="452520"/>
            <a:ext cx="1186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5720" y="4727520"/>
            <a:ext cx="846360" cy="92880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4520" y="4554360"/>
            <a:ext cx="625320" cy="115128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76560" y="4552920"/>
            <a:ext cx="630000" cy="11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8720" y="4367160"/>
            <a:ext cx="625680" cy="131616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4520" y="4378320"/>
            <a:ext cx="625680" cy="131760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59160" y="4378320"/>
            <a:ext cx="625680" cy="131760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0920" y="4390920"/>
            <a:ext cx="628560" cy="128916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1760" y="4568760"/>
            <a:ext cx="843120" cy="115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7320" y="4552920"/>
            <a:ext cx="76824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60" y="4757760"/>
            <a:ext cx="81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4584600"/>
            <a:ext cx="7459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17880" y="4586400"/>
            <a:ext cx="7459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2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74600" y="439092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23680" y="440208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9480" y="438948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2680" y="440208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+4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8160" y="458784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+1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38400" y="4564080"/>
            <a:ext cx="67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+2</a:t>
            </a:r>
            <a:endParaRPr b="0" lang="en-US" sz="10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6832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0e30"/>
                </a:solidFill>
                <a:latin typeface="Times New Roman"/>
              </a:rPr>
              <a:t>Inception Phase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600" y="1138320"/>
            <a:ext cx="716256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tart with an idea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Specify the end-product vision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Work the business case for the projec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Obtain funding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nalyze the project to assess scope and size of the effort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Plan the work </a:t>
            </a:r>
            <a:endParaRPr b="0" lang="en-US" sz="2000" spc="-1" strike="noStrike">
              <a:solidFill>
                <a:srgbClr val="676767"/>
              </a:solidFill>
              <a:latin typeface="Times New Roman"/>
            </a:endParaRPr>
          </a:p>
          <a:p>
            <a:pPr lvl="1" marL="44316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inital iteration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4316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define evaluation criteria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lvl="1" marL="443160">
              <a:spcBef>
                <a:spcPts val="1250"/>
              </a:spcBef>
              <a:buClr>
                <a:srgbClr val="232323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assess project risks and risk mitigation plan</a:t>
            </a:r>
            <a:endParaRPr b="0" lang="en-US" sz="2000" spc="-1" strike="noStrike">
              <a:solidFill>
                <a:srgbClr val="23232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Geneva"/>
              </a:rPr>
              <a:t>Takes about</a:t>
            </a:r>
            <a:r>
              <a:rPr b="0" lang="en-US" sz="3200" spc="-1" strike="noStrike">
                <a:solidFill>
                  <a:srgbClr val="67676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767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1T09:35:06Z</dcterms:created>
  <dc:creator>Michel Izygon</dc:creator>
  <dc:description/>
  <dc:language>en-US</dc:language>
  <cp:lastModifiedBy>Michel Izygon</cp:lastModifiedBy>
  <cp:lastPrinted>1996-12-12T17:14:27Z</cp:lastPrinted>
  <dcterms:modified xsi:type="dcterms:W3CDTF">2003-11-06T23:09:01Z</dcterms:modified>
  <cp:revision>216</cp:revision>
  <dc:subject/>
  <dc:title>Unified Method :  Class Diagrams</dc:title>
</cp:coreProperties>
</file>